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6858000" cy="9144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040" y="4784400"/>
            <a:ext cx="579600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32040" y="8190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040" y="47844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32040" y="47844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186624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621880" y="819000"/>
            <a:ext cx="186624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82080" y="819000"/>
            <a:ext cx="186624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62040" y="4784400"/>
            <a:ext cx="186624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621880" y="4784400"/>
            <a:ext cx="186624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82080" y="4784400"/>
            <a:ext cx="186624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282816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32040" y="819000"/>
            <a:ext cx="282816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2440" y="171360"/>
            <a:ext cx="5829120" cy="20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32040" y="819000"/>
            <a:ext cx="282816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2040" y="47844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282816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32040" y="8190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32040" y="47844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32040" y="8190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62040" y="4784400"/>
            <a:ext cx="579600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09120" y="84582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1999 Oxford Consulting, Lt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895480" y="8686800"/>
            <a:ext cx="15242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 </a:t>
            </a:r>
            <a:fld id="{83599D7E-45AC-460F-A2FB-ED21508EF1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2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2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2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2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9360" y="717480"/>
            <a:ext cx="6115320" cy="30240"/>
            <a:chOff x="9360" y="717480"/>
            <a:chExt cx="6115320" cy="30240"/>
          </a:xfrm>
        </p:grpSpPr>
        <p:sp>
          <p:nvSpPr>
            <p:cNvPr id="5" name=""/>
            <p:cNvSpPr/>
            <p:nvPr/>
          </p:nvSpPr>
          <p:spPr>
            <a:xfrm>
              <a:off x="9360" y="717480"/>
              <a:ext cx="6019920" cy="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04760" y="747720"/>
              <a:ext cx="6019920" cy="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601560" y="8396280"/>
            <a:ext cx="602136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335560" y="8496360"/>
            <a:ext cx="1065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9 March 1999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 - Member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819000"/>
            <a:ext cx="61722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 to C++ - inline specifier 1.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     Using the inline specifier to perform an inline expansion of a fun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string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The function min will be expanded in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line int min (int v1, int v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(v1 &lt;= v2 ? v1 : v2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ruct Arr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ray() {size = 1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ray (int aValue)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Implemented as a function c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how()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Implemented as an inline expan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siz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ray::Array(int aValu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ze = a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line void Array::show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The size is:  " &lt;&lt; size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 - Member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Members - Operators 4.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Comple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im, 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lex(int r=0, int i=0):re(r), im(i) {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Complex(int r=0, int i=0) {re = r, im = i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This implementation requires that the left hand operand be 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instance of the class comple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lex operator+ (Complex a1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return Complex(re+a1.re, im+a1.im)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operator++ (int) {re+=1, im+=1; cout &lt;&lt; "postfix" &lt;&lt; endl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operator++ () {re+=1, im+=1; cout &lt;&lt; "prefix" &lt;&lt; endl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lex x(1,2), y(3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lex a = x.operator+(y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lex b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.re &lt;&lt; " " &lt;&lt; a.im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++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.re &lt;&lt; " " &lt;&lt; a.im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++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.re &lt;&lt; " " &lt;&lt; a.im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 = x+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b.re &lt;&lt; " " &lt;&lt; b.im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 - Member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Members - Operators 4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perators as frien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Rea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Compl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al operator+ (Real a1, int a2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lex operator+ (Real a1, Complex a2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lex operator+ (Complex a1, Real a2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R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al (int r=0) {re = r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al operator+ (Real a1) {return Real(re + a1.re)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Comple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lex(int r=0, int i=0) {re = r, im = i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iend Complex operator+ (Real a1, Complex a2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iend Complex operator+ (Complex a1, Real a2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operator++ (int) {re+=1, im+=1; cout &lt;&lt; "postfix" &lt;&lt; endl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operator++ () {re+=1, im+=1; cout &lt;&lt; "prefix" &lt;&lt; endl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Re() {return r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Im() {return im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im, 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 - Member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al a(10), b(17), c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lex d(11,25), 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 = b+12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 = a+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 = d+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.re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e.getRe() &lt;&lt; " " &lt;&lt; e.getIm()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lex operator+ (Real a1, Complex a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Complex (a1.re + a2.re, a2.im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lex operator+ (Complex a1, Real a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Complex (a1.re + a2.re, a1.im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al operator+ (Real a1, int a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Real (a1.re + a2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 - Member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Members - Operators 4.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mart Poin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Declare a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Sim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(int aValue = 10) {c=a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how() {cout &lt;&lt; "Hi" &lt;&lt; "  " &lt;&lt; c &lt;&lt; endl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c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Declare a second class with a smart poin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SimplePt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Ptr(Simple* aPtr = 0) {sPtr = aPtr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The pointer function performs an operation th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returns a pointer to aSimp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* operator-&gt;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 *sPt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 - Member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* SimplePtr::operator-&gt;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If the pointer is NULL return a dummy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   otherwise return the poin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tic Simple nullSimpler(2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f (sPtr == 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&amp;nullSimpl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sPt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Ptr a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Declare an instance of the class SimplePt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-&gt;show();             //  User the smart pointer in class Sim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to return a pointer to a Sim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 b(3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= &amp;b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Assign the address to the pointer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-&gt;show()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show will display 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 - Member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Membership - Operators 4.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py Construc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funct(A a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() {value = 1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(int aValue) {value = a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(A&amp; a) {value = 5; cout &lt;&lt; "In copy constructor"  &lt;&lt; endl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a(3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nct(a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.value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funct(A 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In funct ...5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...3 if there is no copy constructo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In funct ..." &lt;&lt; a.value &lt;&lt; endl;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 - Member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Members - Operators 4.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signment Opera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Arr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ray () {array = new int[1]; array[0]=0; size = 1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ray(int element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~Array() {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ray&amp; operator=(const Array&amp; a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siz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*arra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ray a1(4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ray b1(5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Enter some valu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(int i = 0; i&lt; 4; i++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1.array[i] = 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1.array[i] = i+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1.array[5] = 5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Assign b1 to a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1 = b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(i=0; i&lt; 4; i++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1.array[i] &lt;&lt; "  " &lt;&lt; b1.array[i]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 - Member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ray::Array(int element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ray = new int[elements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(int i = 0; i&lt;elements; i++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ray[i]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ze = elements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ray&amp; Array::operator=(const Array&amp; 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elements = a.siz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lete[] arra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ray = new int[elements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(int i = 0; i&lt; elements; i++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ray[i] = a.array[i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*this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 - Member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Members - Friends 3.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es as frien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Nu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The class Adder is declared a fri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iend class Add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mber() {number = 1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Number() {return number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numb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Ad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er () {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Instances of class Adder can access the private data of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instances of nu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add (Number aNumber) {return aNumber.number + 1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mber n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er a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1.add(n1)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 - Member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Members - Friends 3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nctions as frien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Numb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add(Number aNumber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Nu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The function add is declared to be a friend of the class Numb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iend int add(Number aNumber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mber() {number = 2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numb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mber n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dd(n1)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add(Number aNumb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(aNumber.number + 1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 - Member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i=2, j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inValue = min(i,j)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Is expanded to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int minValue  = (i &lt;= j) ? i : j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The min value is:  " &lt;&lt; minValue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ruct Array c(3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ruct Array b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C size is: " &lt;&lt;c.size&lt;&lt; endl&lt;&lt;"B size is: "&lt;&lt;b.size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.sho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 - Member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89104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Members - Operators 4.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verloading the Insertion Opera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Declare a test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Simpl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Class(int myData=10) : aValue(myData){ 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a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Overload the insertion operator as a non-member fun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tream&amp; operator &lt;&lt;( ostream&amp; aStream, const SimpleClass&amp; aCla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tream &lt;&lt; aClass.a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aStream;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return the ostream object by refer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main(voi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Class myClass, yourClass(19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Will use the overloaded operator and print 10 and 1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myClass &lt;&lt; " " &lt;&lt; yourClass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 - Member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: Members - Static Data Members  1.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tic data members are shared by all instances of a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Simpl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Class (int aValue){myValue = a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Class () {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etMyValue(int aValue) {myValue = a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MyValue() {return my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static char myChar = 'c';   This is illeg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tic char myCha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The static object is not part of the objects of the class but 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shared by all instances of the clas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The declaration of the static variable is not a defini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The definition is required to be elsewher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tic int my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Define and initialize the static variab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SimpleClass::myValue=1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SimpleClass::myChar = 'a'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 - Member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819000"/>
            <a:ext cx="64008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Class myClass, yourClass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cout &lt;&lt; myClass.myValue &lt;&lt; endl;   myValue is priv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myChar is public and can be accessed without an object bein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rea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myClass.myChar &lt;&lt; " " &lt;&lt; SimpleClass::myChar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myClass.getMyValue() &lt;&lt; " " &lt;&lt; yourClass.getMyValue()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 - Member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Members - const 1.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     Const Data Memb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Cou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nt (int limit = 5, int initial = 0) : upper (limit), count (initial) {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cou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void incLimit() {upper++;}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this is a compile erro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cannot modify a const me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increment() { if (++count == upper) return 1; return 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st int upp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 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nt myCou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cou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ile (!myCount.increment(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myCount.count &lt;&lt; endl;  //  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 - Member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819000"/>
            <a:ext cx="64008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: Members - Static Function Members 1.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    Static function members must be accessed through an obj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Simpl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Class (int aValue){myValue = a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Class () {myNumber = 3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MyValue() {return my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static int getMyNumber() {return myNumber;}  requires an obj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tic int getMyNumb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tic int getMyStuff(SimpleClass *my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tic int getMyVal() {return my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tic char myCha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myLett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tic int my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yNumb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 - Member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Define and initialize the static variab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SimpleClass::myValue=1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SimpleClass::myChar = 'a'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Define the static func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SimpleClass::getMyNumber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my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SimpleClass::getMyStuff (SimpleClass *aCla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The non static data member, myNumber, must be access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through an object since the function has no this poin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aClass-&gt;myNumb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Declare some class instances and a poin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Class myClass, yourClass, *myClassPt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yClassPtr = &amp;myClass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A static member function must access non-static memb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through another class insta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SimpleClass::getMyStuff(myClassPtr)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A static data member can be accessed either through an access //  function or using a static function member which will b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independent of a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 - Member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819000"/>
            <a:ext cx="624852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myClass.getMyNumber()&lt;&lt;" " &lt;&lt; SimpleClass::getMyNumber()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A static data member can be accessed either through a class instance or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using a static function member which will be independent of a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myClass.myChar &lt;&lt; " " &lt;&lt; SimpleClass::myChar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Static data members are shared amongst all class insta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myClass.getMyValue() &lt;&lt; " " &lt;&lt; yourClass.getMyVal()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Classes - Members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Members - Const 1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    Const Class Insta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Sim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 (int aValue = 5) : myValue (aValue){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yFunction0 () const { return myValue;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yFunction1 () { return myValue;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modifies the data member my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int increment () const { return myValue++ ;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y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 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 mine(1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st Simple yours(2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ne.myFunction0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ne.myFunction1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mine.increment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s.myFunction0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yours.myFunction1()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myFunction1() has not been defined as a const me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function thus cannot be used with yours which is declared as 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const obj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yours.increment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6:58Z</dcterms:created>
  <dc:creator>James K. Peckol</dc:creator>
  <dc:description/>
  <dc:language>en-US</dc:language>
  <cp:lastModifiedBy>Dr. James K. Peckol</cp:lastModifiedBy>
  <cp:lastPrinted>1999-04-21T05:38:23Z</cp:lastPrinted>
  <dcterms:modified xsi:type="dcterms:W3CDTF">1999-06-26T06:52:36Z</dcterms:modified>
  <cp:revision>10861</cp:revision>
  <dc:subject/>
  <dc:title>No Slide Title</dc:title>
</cp:coreProperties>
</file>