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9712-6D62-48DC-B48C-AF55F6E39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82720" y="3646800"/>
            <a:ext cx="772776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2196-A82D-4153-AC5A-43293F8EF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37710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42720" y="1218960"/>
            <a:ext cx="37710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82720" y="3646800"/>
            <a:ext cx="37710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42720" y="3646800"/>
            <a:ext cx="37710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ED2A-2F1C-440D-BBF7-21C6E6C14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248796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95600" y="1218960"/>
            <a:ext cx="248796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8120" y="1218960"/>
            <a:ext cx="248796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82720" y="3646800"/>
            <a:ext cx="248796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95600" y="3646800"/>
            <a:ext cx="248796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8120" y="3646800"/>
            <a:ext cx="248796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0153-E70A-4379-85A3-2AAB12684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8581-A640-4EFF-89F6-67739494B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D8B4-EF3D-45EC-B0DA-2513D5758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37710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42720" y="1218960"/>
            <a:ext cx="37710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28F7-9335-47C9-AC66-F8A35AE3C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924D-62AC-493B-9DF4-F80207474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304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0611-DE14-4ADB-84BF-1337CC8AC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37710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42720" y="1218960"/>
            <a:ext cx="37710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82720" y="3646800"/>
            <a:ext cx="37710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1FF0-39E5-4A12-A469-A2F85BD5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37710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42720" y="1218960"/>
            <a:ext cx="37710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42720" y="3646800"/>
            <a:ext cx="37710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381C-471C-4A0D-AAD3-9C6F62AF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37710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42720" y="1218960"/>
            <a:ext cx="37710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82720" y="3646800"/>
            <a:ext cx="772776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04CE-6AF3-48A5-8486-73950E23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pyright 1999 Oxford Consulting, Lt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624672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1 February 1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4190760" y="632448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- </a:t>
            </a:r>
            <a:fld id="{33C42FAF-ECCB-40B0-BD86-FE7645AEE4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066680"/>
            <a:ext cx="8026560" cy="0"/>
          </a:xfrm>
          <a:prstGeom prst="line">
            <a:avLst/>
          </a:prstGeom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27080" y="1103400"/>
            <a:ext cx="8026200" cy="0"/>
          </a:xfrm>
          <a:prstGeom prst="line">
            <a:avLst/>
          </a:prstGeom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19160" y="6046920"/>
            <a:ext cx="8026560" cy="0"/>
          </a:xfrm>
          <a:prstGeom prst="line">
            <a:avLst/>
          </a:prstGeom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olymorphism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olymorphism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ymorphism is a major strength of an object centered paradig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me general type of action…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lnSpc>
                <a:spcPct val="230000"/>
              </a:lnSpc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omplished in different way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lnSpc>
                <a:spcPct val="170000"/>
              </a:lnSpc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y different types of obje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lnSpc>
                <a:spcPct val="2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underlying software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cides how to achieve the a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7005600" y="4597560"/>
          <a:ext cx="1452600" cy="103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05600" y="4597560"/>
                    <a:ext cx="145260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3C4B-2868-4FE5-BB11-80881148E9B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olymorphism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82720" y="1219320"/>
            <a:ext cx="378756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 i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rtual void f ( 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rtual void g( 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62520" y="2743200"/>
            <a:ext cx="1217520" cy="14223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91120" y="2971800"/>
            <a:ext cx="56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vpt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91480" y="1446120"/>
            <a:ext cx="1217520" cy="142236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99400" y="2138400"/>
            <a:ext cx="120636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83040" y="3441600"/>
            <a:ext cx="120636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67080" y="3581280"/>
            <a:ext cx="241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223400" y="1600200"/>
            <a:ext cx="645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&amp;f ( 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249320" y="2274840"/>
            <a:ext cx="701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&amp;g ( 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670000" y="1589040"/>
            <a:ext cx="1017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table[0]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730480" y="2362320"/>
            <a:ext cx="1017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table[1]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4800600" y="1897200"/>
            <a:ext cx="917640" cy="12268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10200" y="4303800"/>
            <a:ext cx="895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ass 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021440" y="3170160"/>
            <a:ext cx="895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ass 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F3CF-5FB8-45D5-A850-2CB77E0E421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olymorphism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82720" y="1219320"/>
            <a:ext cx="3411360" cy="17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i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irtual void f ( 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702320" y="1238400"/>
            <a:ext cx="3411360" cy="17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6640"/>
                <a:tab algn="l" pos="206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ss B : public 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6640"/>
                <a:tab algn="l" pos="206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6640"/>
                <a:tab algn="l" pos="206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6640"/>
                <a:tab algn="l" pos="206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irtual void f ( )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override f( 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6640"/>
                <a:tab algn="l" pos="206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irtual void g ( );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/  define g (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6640"/>
                <a:tab algn="l" pos="206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17840" y="4811760"/>
            <a:ext cx="895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ass 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737640" y="3903840"/>
            <a:ext cx="2356560" cy="637920"/>
            <a:chOff x="737640" y="3903840"/>
            <a:chExt cx="2356560" cy="637920"/>
          </a:xfrm>
        </p:grpSpPr>
        <p:grpSp>
          <p:nvGrpSpPr>
            <p:cNvPr id="94" name=""/>
            <p:cNvGrpSpPr/>
            <p:nvPr/>
          </p:nvGrpSpPr>
          <p:grpSpPr>
            <a:xfrm>
              <a:off x="1876320" y="3903840"/>
              <a:ext cx="1217880" cy="637920"/>
              <a:chOff x="1876320" y="3903840"/>
              <a:chExt cx="1217880" cy="637920"/>
            </a:xfrm>
          </p:grpSpPr>
          <p:sp>
            <p:nvSpPr>
              <p:cNvPr id="95" name=""/>
              <p:cNvSpPr/>
              <p:nvPr/>
            </p:nvSpPr>
            <p:spPr>
              <a:xfrm>
                <a:off x="1876320" y="3903840"/>
                <a:ext cx="1217880" cy="637920"/>
              </a:xfrm>
              <a:prstGeom prst="rect">
                <a:avLst/>
              </a:prstGeom>
              <a:solidFill>
                <a:srgbClr val="66ff33"/>
              </a:solidFill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173680" y="4033800"/>
                <a:ext cx="6451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&amp;f ( )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737640" y="4024440"/>
              <a:ext cx="1017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vtable[0]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98" name=""/>
          <p:cNvGraphicFramePr/>
          <p:nvPr/>
        </p:nvGraphicFramePr>
        <p:xfrm>
          <a:off x="646200" y="4386240"/>
          <a:ext cx="355680" cy="100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6200" y="4386240"/>
                    <a:ext cx="355680" cy="10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6362640" y="3102120"/>
            <a:ext cx="1217520" cy="1422360"/>
          </a:xfrm>
          <a:prstGeom prst="rect">
            <a:avLst/>
          </a:prstGeom>
          <a:solidFill>
            <a:srgbClr val="f97b59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370560" y="3794040"/>
            <a:ext cx="120672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696360" y="3255840"/>
            <a:ext cx="645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amp;f ( 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21200" y="3930480"/>
            <a:ext cx="701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amp;g ( 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42240" y="3244680"/>
            <a:ext cx="1017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table[0]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02360" y="4017960"/>
            <a:ext cx="1017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table[1]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491160" y="4826160"/>
            <a:ext cx="895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ass 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795920" y="3554280"/>
          <a:ext cx="355680" cy="100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95920" y="3554280"/>
                    <a:ext cx="355680" cy="10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9C9A-B28D-4EF2-A31D-A7AF9A7465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olymorphism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4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irtual Functions - vtabl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25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ains pointers to all virtual func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25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ch class gets its own vta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25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 classes have no vta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25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table size is proportional to the number of virtual func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8401-EB81-45E9-994B-2F1A6669788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olymorphism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irtual Functions - Invo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virtual function is invoked through a public base class pointer or referen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Runtime Bin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SzPct val="6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ypically polymorphic binding is dynamic at run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SzPct val="6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rtual functions are not inlin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ompile Time Bin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SzPct val="6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ccasionally have compile time polymorphic bin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SzPct val="6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voked through an object of the class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SzPct val="6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voked using the scope opera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SzPct val="6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voked through a constructor or de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805F-0855-4634-96D4-940565311C4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olymorphism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irtual Functions - Access Prot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access level of a virtual function is determined b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ss level in class of the pointer through which it’s invok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36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by the class in which it’s defin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972480" y="3774960"/>
          <a:ext cx="963360" cy="13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72480" y="3774960"/>
                    <a:ext cx="963360" cy="13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AE67-CC75-40EE-BD1E-3F776322A64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olymorphism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52160" y="1217520"/>
            <a:ext cx="1530360" cy="166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 : public 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 : public B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 : public C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 : public 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664080" y="1235160"/>
            <a:ext cx="4108320" cy="12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clare a and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virtual function f()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virtual function f() in 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protecte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virtual function f() in 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virtual function f() in 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3127320"/>
            <a:ext cx="7391520" cy="25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rit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.  A* a = new B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-&gt; f();    // f() accessible through *a (as a *B - *a in public are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  a = new C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-&gt; f();    // f() accessible through *a (as a *C - a* in public are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.  C* c = new D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-&gt; f();    // f() not accessible through *c (as a *D - c* in protected are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8054-1876-4D4E-B071-4BEC4B883FA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olymorphism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4960" y="1219320"/>
            <a:ext cx="772776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irtual Destru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a base class pointer is used to refer to a derived class object and the object is deleted…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ly the base class destructor will be invoked leaving behind the derived class parts of the objec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09680" y="2560680"/>
          <a:ext cx="979560" cy="96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9680" y="2560680"/>
                    <a:ext cx="97956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7226280" y="4782960"/>
          <a:ext cx="444600" cy="93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26280" y="4782960"/>
                    <a:ext cx="444600" cy="9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2851-A2AF-4F6A-A92B-3063101A06A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olymorphism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irtual Destruc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synta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rtual ~ class ClassName ( ) { destructor body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cifying a destructor as virtual ensures all appropriate destructors are invok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le of thumb…..If a class is abstract then declare the destructor as virtu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25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n’t declare the destructor if there are no other virtual func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6065-383A-4584-A920-194D6DE5B22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olymorphism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irtual Destruc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vocation order…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6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Monotype Sort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derived type de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6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6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Monotype Sort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destructor for each base class…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7748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..Invoked in turn in normal fash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3197-2AA4-46A6-B45F-492CE34C29B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olymorphism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olymorphism and Object Slic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must exercise caution when treating objects polymorphical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is a distinct difference between passing objects by value and by refere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621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n a derived class object is passed by value to a function expecting a base class value…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62160" indent="0">
              <a:lnSpc>
                <a:spcPct val="1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derived class portion is sliced off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11120" y="4870440"/>
          <a:ext cx="146052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120" y="4870440"/>
                    <a:ext cx="146052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D855-95F1-4435-98A4-A20AEA56E8E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olymorphism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olymorphis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y issue…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n to implement the a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ile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arly Bin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lows greater execution spe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hieved through optimized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lnSpc>
                <a:spcPct val="1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n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Late Bin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lows for greater flexibi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portunity for abstra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7B2F-E305-4E86-B803-1C7FE0CF242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olymorphism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ure Virtual Fun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2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A virtual function must be defined when it is decla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451"/>
              </a:spcBef>
              <a:buClr>
                <a:srgbClr val="ffffff"/>
              </a:buClr>
              <a:buSzPct val="6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 base class may be defined that is not intended to be instanti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lnSpc>
                <a:spcPct val="23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virtual function is declared pure ….  an implement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y still be suppli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lnSpc>
                <a:spcPct val="2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rived class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ma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use implemen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AFEC-A4EC-4522-89D5-18F02BC9400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olymorphism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ure Virtual Function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n a function is declared pure…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ffff"/>
              </a:buClr>
              <a:buSzPct val="80000"/>
              <a:buFont typeface="Monotype Sorts" charset="2"/>
              <a:buChar char="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is no address to put into the v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Monotype Sorts" charset="2"/>
              <a:buChar char="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0 keys the compiler that no instances of this class can be cre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802F-761E-43B8-BB95-A8BF2D48A88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olymorphism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ure Virtual Fun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estri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38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class with one or more pure virtual func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00040" indent="0">
              <a:lnSpc>
                <a:spcPct val="1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 only be used as a base cl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000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not have instan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000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not be used 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35920" indent="-223920">
              <a:spcBef>
                <a:spcPts val="451"/>
              </a:spcBef>
              <a:buClr>
                <a:srgbClr val="ffffff"/>
              </a:buClr>
              <a:buSzPct val="8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 argument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35920" indent="-223920">
              <a:spcBef>
                <a:spcPts val="451"/>
              </a:spcBef>
              <a:buClr>
                <a:srgbClr val="ffffff"/>
              </a:buClr>
              <a:buSzPct val="8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turn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35920" indent="-223920">
              <a:spcBef>
                <a:spcPts val="451"/>
              </a:spcBef>
              <a:buClr>
                <a:srgbClr val="ffffff"/>
              </a:buClr>
              <a:buSzPct val="8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ype for explicit conver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000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 be used as 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35920" indent="-223920">
              <a:spcBef>
                <a:spcPts val="451"/>
              </a:spcBef>
              <a:buClr>
                <a:srgbClr val="ffffff"/>
              </a:buClr>
              <a:buSzPct val="8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in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35920" indent="-223920">
              <a:spcBef>
                <a:spcPts val="451"/>
              </a:spcBef>
              <a:buClr>
                <a:srgbClr val="ffffff"/>
              </a:buClr>
              <a:buSzPct val="8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erence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380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class cannot define a pure virtual de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75A2-2A07-41CF-9479-A34AF8834E4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olymorphism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ure Virtual Defini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may be occasions when it’s desirable to share code wit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rived classes but not duplicate in each cla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 prevent base class instantiation yet provide a definition for a pu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rtual func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synta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rtual returnType functionName ( argsi ) = 0 {  function body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53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seClassName :: functionName (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6DF3-9544-4BC6-9BB1-7B5992F5252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olymorphism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irtual Fun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Rules for Virtual Fun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 Virtual functions called from within a constructor use the local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rs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first class in a derivation hierarchy that declares a virtual function it must provide a definition or it must declare the virtual function to be p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a definition is provided, the definition serves as the default instance in subsequent deriv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pure, a subsequently derived class must provide a definition - to have instances or inherit the pure virtual function - have no instan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0B7A-B520-4BBA-B223-74752A8FEA3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olymorphism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irtual Fun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59960" y="1370160"/>
            <a:ext cx="3171960" cy="470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f1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 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f1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 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ust define vf1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 ) and vf1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 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f1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 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n have instan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vf1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 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 instan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 instan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vf1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 ) =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fines pvf1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 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n have instan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076640" y="1447920"/>
            <a:ext cx="990720" cy="335880"/>
          </a:xfrm>
          <a:prstGeom prst="rect">
            <a:avLst/>
          </a:prstGeom>
          <a:solidFill>
            <a:srgbClr val="ff00ff"/>
          </a:solidFill>
          <a:ln w="0">
            <a:noFill/>
          </a:ln>
          <a:effectLst>
            <a:outerShdw dist="107932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ass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76640" y="2438280"/>
            <a:ext cx="990720" cy="335880"/>
          </a:xfrm>
          <a:prstGeom prst="rect">
            <a:avLst/>
          </a:prstGeom>
          <a:solidFill>
            <a:srgbClr val="339933"/>
          </a:solidFill>
          <a:ln w="0">
            <a:noFill/>
          </a:ln>
          <a:effectLst>
            <a:outerShdw dist="107932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ass 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076640" y="3429000"/>
            <a:ext cx="990720" cy="33588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ass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076640" y="4343400"/>
            <a:ext cx="990720" cy="33588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07932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ass 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076640" y="5410080"/>
            <a:ext cx="990720" cy="335880"/>
          </a:xfrm>
          <a:prstGeom prst="rect">
            <a:avLst/>
          </a:prstGeom>
          <a:solidFill>
            <a:srgbClr val="ff6633"/>
          </a:solidFill>
          <a:ln w="0">
            <a:noFill/>
          </a:ln>
          <a:effectLst>
            <a:outerShdw dist="107932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ass 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572000" y="1828440"/>
            <a:ext cx="0" cy="60948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4572000" y="2819160"/>
            <a:ext cx="0" cy="60948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572000" y="3809880"/>
            <a:ext cx="0" cy="53352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572000" y="4724280"/>
            <a:ext cx="0" cy="60984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B13D-DA34-43C1-9E20-3A7DD89E54D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olymorphism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irtual Functions - Access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access level of a virtual function is….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lnSpc>
                <a:spcPct val="280000"/>
              </a:lnSpc>
              <a:spcBef>
                <a:spcPts val="451"/>
              </a:spcBef>
              <a:buClr>
                <a:srgbClr val="ffffff"/>
              </a:buClr>
              <a:buFont typeface="Monotype Sort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cified in the class where it is defin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lnSpc>
                <a:spcPct val="280000"/>
              </a:lnSpc>
              <a:spcBef>
                <a:spcPts val="451"/>
              </a:spcBef>
              <a:buClr>
                <a:srgbClr val="ffffff"/>
              </a:buClr>
              <a:buFont typeface="Monotype Sort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by initial defini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638D-B5A4-4020-9F8B-9D5ABE91673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olymorphism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irtual Base Cla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ent classes may have a common base cl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600200" y="2666880"/>
            <a:ext cx="1119240" cy="596880"/>
          </a:xfrm>
          <a:prstGeom prst="rect">
            <a:avLst/>
          </a:prstGeom>
          <a:solidFill>
            <a:srgbClr val="f97b59"/>
          </a:solidFill>
          <a:ln w="12600">
            <a:solidFill>
              <a:srgbClr val="000099"/>
            </a:solidFill>
            <a:miter/>
          </a:ln>
          <a:effectLst>
            <a:outerShdw dist="107932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826280" y="2808360"/>
            <a:ext cx="634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ui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608200" y="3892680"/>
            <a:ext cx="1119240" cy="59688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99"/>
            </a:solidFill>
            <a:miter/>
          </a:ln>
          <a:effectLst>
            <a:outerShdw dist="107932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27120" y="3892680"/>
            <a:ext cx="1119240" cy="596880"/>
          </a:xfrm>
          <a:prstGeom prst="rect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  <a:effectLst>
            <a:outerShdw dist="107932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4480" y="4027320"/>
            <a:ext cx="782280" cy="335880"/>
          </a:xfrm>
          <a:prstGeom prst="rect">
            <a:avLst/>
          </a:prstGeom>
          <a:solidFill>
            <a:srgbClr val="99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ac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181160" y="3238200"/>
            <a:ext cx="609480" cy="68580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2552400" y="3238200"/>
            <a:ext cx="609480" cy="68580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504040" y="2673360"/>
            <a:ext cx="1118880" cy="596880"/>
          </a:xfrm>
          <a:prstGeom prst="rect">
            <a:avLst/>
          </a:prstGeom>
          <a:solidFill>
            <a:srgbClr val="f97b59"/>
          </a:solidFill>
          <a:ln w="12600">
            <a:solidFill>
              <a:srgbClr val="000099"/>
            </a:solidFill>
            <a:miter/>
          </a:ln>
          <a:effectLst>
            <a:outerShdw dist="107932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12480" y="2808360"/>
            <a:ext cx="634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ui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94400" y="3892680"/>
            <a:ext cx="1119240" cy="59688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99"/>
            </a:solidFill>
            <a:miter/>
          </a:ln>
          <a:effectLst>
            <a:outerShdw dist="107932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2840" y="4027320"/>
            <a:ext cx="680400" cy="3358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u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13320" y="3892680"/>
            <a:ext cx="1119240" cy="596880"/>
          </a:xfrm>
          <a:prstGeom prst="rect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  <a:effectLst>
            <a:outerShdw dist="107932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720680" y="4027320"/>
            <a:ext cx="782280" cy="335880"/>
          </a:xfrm>
          <a:prstGeom prst="rect">
            <a:avLst/>
          </a:prstGeom>
          <a:solidFill>
            <a:srgbClr val="99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ac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40240" y="5111640"/>
            <a:ext cx="1511280" cy="596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99"/>
            </a:solidFill>
            <a:miter/>
          </a:ln>
          <a:effectLst>
            <a:outerShdw dist="107932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562720" y="5246640"/>
            <a:ext cx="1218960" cy="335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ctar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324480" y="3276720"/>
            <a:ext cx="685800" cy="609480"/>
          </a:xfrm>
          <a:prstGeom prst="line">
            <a:avLst/>
          </a:prstGeom>
          <a:ln w="255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5105160" y="3276720"/>
            <a:ext cx="685800" cy="609480"/>
          </a:xfrm>
          <a:prstGeom prst="line">
            <a:avLst/>
          </a:prstGeom>
          <a:ln w="255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6400440" y="4495680"/>
            <a:ext cx="685800" cy="609840"/>
          </a:xfrm>
          <a:prstGeom prst="line">
            <a:avLst/>
          </a:prstGeom>
          <a:ln w="255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81480" y="4495680"/>
            <a:ext cx="685800" cy="609840"/>
          </a:xfrm>
          <a:prstGeom prst="line">
            <a:avLst/>
          </a:prstGeom>
          <a:ln w="255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92800" y="4713120"/>
            <a:ext cx="680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e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931440" y="4789440"/>
            <a:ext cx="680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e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16640" y="4027320"/>
            <a:ext cx="680400" cy="3358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u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64FC-04E7-48A0-8829-BE351A37A0E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olymorphism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irtual Base Cla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2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Proble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lnSpc>
                <a:spcPct val="16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uit has a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te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ata memb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lnSpc>
                <a:spcPct val="16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ach and plum each inherit a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te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member from Fru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lnSpc>
                <a:spcPct val="16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ctarine inherits a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te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member from e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lnSpc>
                <a:spcPct val="16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uld resolve using the scope opera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um::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ach::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5106960" y="4876920"/>
          <a:ext cx="370080" cy="90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6960" y="4876920"/>
                    <a:ext cx="370080" cy="90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6F92-8381-47CF-9B01-351D738977E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olymorphism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irtual Base Cla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Solu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ffff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clare Fruit as a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irtual base cl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Resul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lnSpc>
                <a:spcPct val="13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y a single copy of the base class in the derivation hierarch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lnSpc>
                <a:spcPct val="13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y a single copy of all inherited data membe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lnSpc>
                <a:spcPct val="13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sequent derivations point to shared membe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7388280" y="4818240"/>
          <a:ext cx="1225440" cy="114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88280" y="4818240"/>
                    <a:ext cx="122544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3E94-5353-40EE-AA1C-F030C4D38E5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olymorphism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spcBef>
                <a:spcPts val="24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olymorphism and C++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ar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986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nding occurs at compile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143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rly binding polymorphis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629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ss of overloading memb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L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986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nding occurs at run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143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te binding polymorphis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629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ode to implement the method is chosen at run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629720" indent="0">
              <a:lnSpc>
                <a:spcPct val="1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ropriate code chosen sending a message 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629720" indent="0">
              <a:lnSpc>
                <a:spcPct val="4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object …. Not to the pointer to the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629720" indent="0">
              <a:lnSpc>
                <a:spcPct val="1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lemented through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irtual fun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221D-3705-4F56-8A4F-2B6AF6DD447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olymorphism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irtual Base Classes - Specif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ynta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ass DerivedClass :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virtu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ccessSpec BaseCl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rivedClas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class being deriv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seClas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parent cla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pecificatio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pecify base class member acc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ubl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tec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iva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keyword virtual identifies BaseClass as a virtual base class of DerivedClas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DC27-116C-416E-A391-ECB46304885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olymorphism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irtual Base Classes - Implemen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4673520" y="4425840"/>
            <a:ext cx="2381400" cy="749520"/>
            <a:chOff x="4673520" y="4425840"/>
            <a:chExt cx="2381400" cy="749520"/>
          </a:xfrm>
        </p:grpSpPr>
        <p:sp>
          <p:nvSpPr>
            <p:cNvPr id="196" name=""/>
            <p:cNvSpPr/>
            <p:nvPr/>
          </p:nvSpPr>
          <p:spPr>
            <a:xfrm>
              <a:off x="4673520" y="4425840"/>
              <a:ext cx="2381400" cy="74952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010120" y="4643280"/>
              <a:ext cx="1773000" cy="3358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 Data Member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5816520" y="2825640"/>
            <a:ext cx="2381400" cy="749520"/>
          </a:xfrm>
          <a:prstGeom prst="rect">
            <a:avLst/>
          </a:prstGeom>
          <a:solidFill>
            <a:srgbClr val="f97b5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76800" y="3048120"/>
            <a:ext cx="1773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Data Memb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927000" y="3124080"/>
            <a:ext cx="2381040" cy="749160"/>
            <a:chOff x="927000" y="3124080"/>
            <a:chExt cx="2381040" cy="749160"/>
          </a:xfrm>
        </p:grpSpPr>
        <p:sp>
          <p:nvSpPr>
            <p:cNvPr id="201" name=""/>
            <p:cNvSpPr/>
            <p:nvPr/>
          </p:nvSpPr>
          <p:spPr>
            <a:xfrm>
              <a:off x="927000" y="3124080"/>
              <a:ext cx="2381040" cy="749160"/>
            </a:xfrm>
            <a:prstGeom prst="rect">
              <a:avLst/>
            </a:prstGeom>
            <a:solidFill>
              <a:srgbClr val="f97b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187280" y="3346200"/>
              <a:ext cx="1773000" cy="335880"/>
            </a:xfrm>
            <a:prstGeom prst="rect">
              <a:avLst/>
            </a:prstGeom>
            <a:solidFill>
              <a:srgbClr val="f97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Data Member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927000" y="3892680"/>
            <a:ext cx="2381040" cy="749160"/>
            <a:chOff x="927000" y="3892680"/>
            <a:chExt cx="2381040" cy="749160"/>
          </a:xfrm>
        </p:grpSpPr>
        <p:sp>
          <p:nvSpPr>
            <p:cNvPr id="204" name=""/>
            <p:cNvSpPr/>
            <p:nvPr/>
          </p:nvSpPr>
          <p:spPr>
            <a:xfrm>
              <a:off x="927000" y="3892680"/>
              <a:ext cx="2381040" cy="74916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63240" y="4110120"/>
              <a:ext cx="1773000" cy="3358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 Data Member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5178600" y="5475240"/>
            <a:ext cx="2517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rtual Deriv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2560" y="2579760"/>
            <a:ext cx="251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n-Virtual Deriv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5867280" y="3580920"/>
            <a:ext cx="914400" cy="83844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B394-B8C6-4248-BD8F-9CE2A957B62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olymorphism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irtual Base Classes - Access Prot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n there are multiple paths from a common root 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the most public path domin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632560" y="3206880"/>
            <a:ext cx="1044360" cy="490320"/>
          </a:xfrm>
          <a:prstGeom prst="rect">
            <a:avLst/>
          </a:prstGeom>
          <a:solidFill>
            <a:srgbClr val="f97b59"/>
          </a:solidFill>
          <a:ln w="12600">
            <a:solidFill>
              <a:srgbClr val="000099"/>
            </a:solidFill>
            <a:miter/>
          </a:ln>
          <a:effectLst>
            <a:outerShdw dist="107932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828400" y="3316320"/>
            <a:ext cx="634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ui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556320" y="4213080"/>
            <a:ext cx="1041480" cy="48924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99"/>
            </a:solidFill>
            <a:miter/>
          </a:ln>
          <a:effectLst>
            <a:outerShdw dist="107932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750360" y="4322880"/>
            <a:ext cx="680400" cy="3358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u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710240" y="4213080"/>
            <a:ext cx="1039680" cy="489240"/>
          </a:xfrm>
          <a:prstGeom prst="rect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  <a:effectLst>
            <a:outerShdw dist="107932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03200" y="4322880"/>
            <a:ext cx="782280" cy="335880"/>
          </a:xfrm>
          <a:prstGeom prst="rect">
            <a:avLst/>
          </a:prstGeom>
          <a:solidFill>
            <a:srgbClr val="99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ac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481720" y="5218200"/>
            <a:ext cx="1406520" cy="4903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99"/>
            </a:solidFill>
            <a:miter/>
          </a:ln>
          <a:effectLst>
            <a:outerShdw dist="107932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688000" y="5330880"/>
            <a:ext cx="1133640" cy="335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ctar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97560" y="3703680"/>
            <a:ext cx="638280" cy="503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5260680" y="3703680"/>
            <a:ext cx="638280" cy="503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6470640" y="4708440"/>
            <a:ext cx="636480" cy="503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32320" y="4708440"/>
            <a:ext cx="639720" cy="503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268160" y="3630600"/>
            <a:ext cx="1445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rtual publi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38360" y="3693960"/>
            <a:ext cx="1513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rtual priva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E620-D517-4147-A050-B2A4A0A0B5C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olymorphism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irtual Base Classes -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virtual base class is initialized by the most derived cla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ization Ord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lnSpc>
                <a:spcPct val="1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tructors for any virtual base class(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lnSpc>
                <a:spcPct val="1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tructors for any non-virtual base cla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lnSpc>
                <a:spcPct val="1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ost derived class must provide initialization valu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1259-6360-4731-9A80-8743725B1F1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olymorphism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tual Base Classes -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fy class E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E : public D, public C, public virtual 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879720" y="3130560"/>
            <a:ext cx="914400" cy="338040"/>
          </a:xfrm>
          <a:prstGeom prst="rect">
            <a:avLst/>
          </a:prstGeom>
          <a:solidFill>
            <a:srgbClr val="f97b59"/>
          </a:solidFill>
          <a:ln w="12600">
            <a:solidFill>
              <a:srgbClr val="000099"/>
            </a:solidFill>
            <a:miter/>
          </a:ln>
          <a:effectLst>
            <a:outerShdw dist="107932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72040" y="3144960"/>
            <a:ext cx="323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4794120" y="4876920"/>
            <a:ext cx="1454400" cy="71568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7360" y="3402000"/>
            <a:ext cx="793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rtu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282640" y="3465360"/>
            <a:ext cx="793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rtu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965320" y="3892680"/>
            <a:ext cx="914400" cy="338040"/>
          </a:xfrm>
          <a:prstGeom prst="rect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  <a:effectLst>
            <a:outerShdw dist="107932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57640" y="3906720"/>
            <a:ext cx="323640" cy="305640"/>
          </a:xfrm>
          <a:prstGeom prst="rect">
            <a:avLst/>
          </a:prstGeom>
          <a:solidFill>
            <a:srgbClr val="99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870440" y="3892680"/>
            <a:ext cx="914400" cy="338040"/>
          </a:xfrm>
          <a:prstGeom prst="rect">
            <a:avLst/>
          </a:prstGeom>
          <a:solidFill>
            <a:srgbClr val="8bff67"/>
          </a:solidFill>
          <a:ln w="12600">
            <a:solidFill>
              <a:srgbClr val="000099"/>
            </a:solidFill>
            <a:miter/>
          </a:ln>
          <a:effectLst>
            <a:outerShdw dist="107932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162400" y="3906720"/>
            <a:ext cx="324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65320" y="4730760"/>
            <a:ext cx="914400" cy="338040"/>
          </a:xfrm>
          <a:prstGeom prst="rect">
            <a:avLst/>
          </a:prstGeom>
          <a:solidFill>
            <a:srgbClr val="ff75ff"/>
          </a:solidFill>
          <a:ln w="12600">
            <a:solidFill>
              <a:srgbClr val="000099"/>
            </a:solidFill>
            <a:miter/>
          </a:ln>
          <a:effectLst>
            <a:outerShdw dist="107932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257640" y="4745160"/>
            <a:ext cx="323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79720" y="5568840"/>
            <a:ext cx="914400" cy="3384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99"/>
            </a:solidFill>
            <a:miter/>
          </a:ln>
          <a:effectLst>
            <a:outerShdw dist="107932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172040" y="5583240"/>
            <a:ext cx="323640" cy="30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61160" y="4502160"/>
            <a:ext cx="914400" cy="33804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99"/>
            </a:solidFill>
            <a:miter/>
          </a:ln>
          <a:effectLst>
            <a:outerShdw dist="107932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153120" y="4516560"/>
            <a:ext cx="324000" cy="30564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3429000" y="3429000"/>
            <a:ext cx="457200" cy="45720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29000" y="4267080"/>
            <a:ext cx="0" cy="38124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4344840" y="4267080"/>
            <a:ext cx="989280" cy="129384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429000" y="5029200"/>
            <a:ext cx="457200" cy="53352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800600" y="3505320"/>
            <a:ext cx="533520" cy="38088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120720" y="5065560"/>
            <a:ext cx="793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rtu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902840" y="2855880"/>
            <a:ext cx="1875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rtual base cla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2D0C-AC3F-4A2A-9376-D3BEC069EC9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olymorphism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irtual Fun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virtual function must be declared in the parent cl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synta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irtual fun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rtual returnType functionName ( arg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{ function body ;}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u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irtual fun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rtual returnType functionName ( arg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BF16-1590-4453-B48F-0336266FEEB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olymorphism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24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irtual Function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Decla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function name is preceded by the keyword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irtu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85640" indent="-221400">
              <a:spcBef>
                <a:spcPts val="451"/>
              </a:spcBef>
              <a:buClr>
                <a:srgbClr val="ffffff"/>
              </a:buClr>
              <a:buSzPct val="65000"/>
              <a:buFont typeface="Monotype Sort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nction name can only be used once in the parent cl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85640" indent="-221400">
              <a:spcBef>
                <a:spcPts val="451"/>
              </a:spcBef>
              <a:buClr>
                <a:srgbClr val="ffffff"/>
              </a:buClr>
              <a:buSzPct val="65000"/>
              <a:buFont typeface="Monotype Sort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not overload virtual fun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85640" indent="-221400">
              <a:spcBef>
                <a:spcPts val="451"/>
              </a:spcBef>
              <a:buClr>
                <a:srgbClr val="ffffff"/>
              </a:buClr>
              <a:buSzPct val="65000"/>
              <a:buFont typeface="Monotype Sort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y class member functions can be declared virtu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856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function is virtual…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85640" indent="-221400">
              <a:spcBef>
                <a:spcPts val="451"/>
              </a:spcBef>
              <a:buClr>
                <a:srgbClr val="ffffff"/>
              </a:buClr>
              <a:buSzPct val="6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it is declared virtu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85640" indent="-221400">
              <a:lnSpc>
                <a:spcPct val="17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is a base class function with the same signatu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8564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clared virtu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856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y or all class member functions can be declared virtu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BAC2-60C6-42F0-AC7C-1C6815D0D06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olymorphism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irtual Fun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Implemen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body of the virtual function must be supplied in the paren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unless declared to be a pure virtual fun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derived class can overload the definition by providing its o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lemen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the re-declaration does not match exactly…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function not considered virtual for that cl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virtual function still permitted in a subsequently derived clas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B00A-9A18-46DB-B26B-4456439A343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olymorphism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irtual Fun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2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ch a capability permits multiple functions to be called through 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mon interf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2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 be overridden by explicit qualification with the scope operat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2368440" y="3551400"/>
            <a:ext cx="3872160" cy="2385720"/>
            <a:chOff x="2368440" y="3551400"/>
            <a:chExt cx="3872160" cy="2385720"/>
          </a:xfrm>
        </p:grpSpPr>
        <p:sp>
          <p:nvSpPr>
            <p:cNvPr id="61" name=""/>
            <p:cNvSpPr/>
            <p:nvPr/>
          </p:nvSpPr>
          <p:spPr>
            <a:xfrm>
              <a:off x="4325760" y="4923000"/>
              <a:ext cx="19148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Gives Uniform Func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all Interfac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2368440" y="4078440"/>
              <a:ext cx="1771920" cy="1858680"/>
              <a:chOff x="2368440" y="4078440"/>
              <a:chExt cx="1771920" cy="1858680"/>
            </a:xfrm>
          </p:grpSpPr>
          <p:sp>
            <p:nvSpPr>
              <p:cNvPr id="63" name=""/>
              <p:cNvSpPr/>
              <p:nvPr/>
            </p:nvSpPr>
            <p:spPr>
              <a:xfrm>
                <a:off x="2368440" y="4078440"/>
                <a:ext cx="1771920" cy="185868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607120" y="4410000"/>
                <a:ext cx="486720" cy="24480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Base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887560" y="4683240"/>
                <a:ext cx="690840" cy="85392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erived1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erived2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erived3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……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..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erivedn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6" name=""/>
            <p:cNvSpPr/>
            <p:nvPr/>
          </p:nvSpPr>
          <p:spPr>
            <a:xfrm>
              <a:off x="3715920" y="3551400"/>
              <a:ext cx="1323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ublic Interfac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3962520" y="3809880"/>
              <a:ext cx="380880" cy="381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038480" y="4648320"/>
              <a:ext cx="609840" cy="759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flipV="1">
              <a:off x="4038480" y="5409720"/>
              <a:ext cx="457200" cy="381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D466-EF31-4EB2-B0BC-5A00F25B0BD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olymorphism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82720" y="1218960"/>
            <a:ext cx="7727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irtual Fun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n function in a class is declared virtu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yword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irtual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lls compil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451"/>
              </a:spcBef>
              <a:buClr>
                <a:srgbClr val="ffffff"/>
              </a:buClr>
              <a:buSzPct val="6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n’t perform early bin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451"/>
              </a:spcBef>
              <a:buClr>
                <a:srgbClr val="ffffff"/>
              </a:buClr>
              <a:buSzPct val="6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stall mechanisms to perform late bin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iler responds by creat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451"/>
              </a:spcBef>
              <a:buClr>
                <a:srgbClr val="ffffff"/>
              </a:buClr>
              <a:buSzPct val="6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ble of function poin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451"/>
              </a:spcBef>
              <a:buClr>
                <a:srgbClr val="ffffff"/>
              </a:buClr>
              <a:buSzPct val="6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stalling a data member to the class to point to the 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03E0-4179-40B4-8C30-EDD50E70B15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olymorphism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06040" y="1218960"/>
            <a:ext cx="77281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24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irtual Fun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ompiler created table is called th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table (vtb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31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ains pointers to all functions declared virtual within the clas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31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d derived classe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ch class gets its own v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data member called th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pointe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vPt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31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ually placed as the first element in object in memor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31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ized to the starting address of the vta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function call through a base class poin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31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exes into the vtable calls the function located at the addr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8529-37F8-404E-9E40-5B7D8FDC144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26:58Z</dcterms:created>
  <dc:creator>James K. Peckol</dc:creator>
  <dc:description/>
  <dc:language>en-US</dc:language>
  <cp:lastModifiedBy>Dr. James K. Peckol</cp:lastModifiedBy>
  <cp:lastPrinted>1999-03-28T23:28:31Z</cp:lastPrinted>
  <dcterms:modified xsi:type="dcterms:W3CDTF">1999-06-26T07:06:45Z</dcterms:modified>
  <cp:revision>10864</cp:revision>
  <dc:subject/>
  <dc:title>No Slide Title</dc:title>
</cp:coreProperties>
</file>