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218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820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204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218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820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2440" y="171360"/>
            <a:ext cx="582912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84582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95480" y="8686800"/>
            <a:ext cx="1524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D9AFFBAA-9D2C-4CA2-BE89-A5779FC2D9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9360" y="717480"/>
            <a:ext cx="6115320" cy="30240"/>
            <a:chOff x="9360" y="717480"/>
            <a:chExt cx="6115320" cy="30240"/>
          </a:xfrm>
        </p:grpSpPr>
        <p:sp>
          <p:nvSpPr>
            <p:cNvPr id="5" name=""/>
            <p:cNvSpPr/>
            <p:nvPr/>
          </p:nvSpPr>
          <p:spPr>
            <a:xfrm>
              <a:off x="9360" y="71748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4760" y="74772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01560" y="8396280"/>
            <a:ext cx="60213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560" y="8496360"/>
            <a:ext cx="106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 March 199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Functions - Using Default Parameters 1.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In the function printThings(), the second and third paramet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   have been assigned default valu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(int earth, int moon = 1, int stars = 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vo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Things 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Things(10,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Things (10, 20, 3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 (int earth, int moon, int sta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earth &lt;&lt; "  " &lt;&lt;  moon &lt;&lt; "  " &lt;&lt;  stars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nline specifier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Using the inline specifier to perform an inline expansion of a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function min will be expanded i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line int min (int v1, int v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(v1 &lt;= v2 ? v1 : v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() {siz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(int aValue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mplemented as a function 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mplemented as an inline expan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z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::Array(int a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z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line void Array::show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size is:  " &lt;&lt; siz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=2, j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inValue = min(i,j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s expanded t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t minValue  = (i &lt;= j) ? i : 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min value is:  " &lt;&lt; minValu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 c(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C size is: " &lt;&lt;c.size&lt;&lt; endl&lt;&lt;"B size is: "&lt;&lt;b.size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ostream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ostream to write to stdo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length of Seattle is:  \t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strlen ("Seattle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length of Seattle is:  \t" &lt;&lt; strlen ("Seattle")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ostream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istream to read from std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Please enter your Social Security Number: 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n &gt;&gt; i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Your Social Security Number is:  " &lt;&lt; id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ostream 1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sing istream to read strings from std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myBuf [80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le (cin &gt;&gt; myBu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bufPtr = new char [strlen (myBuf) +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py (bufPtr, myBuf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ufPt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ostream 1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ecifying output precision - will print the decimal point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-1 digits of prec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manip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 = 1; i&lt;6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precision(i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precision is: 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cout.precisio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"\t" &lt;&lt; 9.876543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cision i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cision i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.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cision i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.8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cision i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.87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ecision i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.87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ostream 1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put Formatting - Change of Base and Case for Numb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acter, String, Line Input and Outp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manip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Set case to upper for numb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setf(ios::uppercas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haracter ou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put('a'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tring out prints My 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 = "My name is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write (s, 5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hange of ba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s F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setf(ios::hex, ios::basefield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253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Set case to lower for numbers prints 6d 15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unsetf(ios::uppercas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109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.setf(ios::oct, ios::basefield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111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input a charac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ints input charac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n.get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put a string puts 8 bytes of input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to buffer b.  no '\0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b[80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n.read(b, 8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[8] = NUL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put a line puts characters upto the delimiter ('|') of input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to buffer c.  adds '\0'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[80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n.getline(c,80, '|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 to C++ - Functions - Overloading Function Names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Functions names can be overloaded if each can be distinguish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by its sign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(int i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(char c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(char *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 = "This is a string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Things (10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 an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Things('a');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 a ch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Things (s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 a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 (int 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teger: \t" &lt;&lt; i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 (char 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character: \t" &lt;&lt; c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Things (char *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string: \t" &lt;&lt; s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Reference Types - A First Look at Reference Types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ber = 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&amp;refNumber = number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fNumber now is an alias for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*ptr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umber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s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refNumber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s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Number = 5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fNumber and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both assigned value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umbe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trNumber = &amp;refNumber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ssigning refNumber to a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*ptr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Reference Typ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Pass by Reference using Reference Types 1.1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incrementR (int &amp;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incrementV (int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ber = 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ber1 = 2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mentR(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umber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mentV (number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umber1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incrementR (int &amp;aNum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umber++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assed by refe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incrementV (int aNum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umber++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assed by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Reference Types - A Reference to a Pointer 1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increment (int* &amp;i) {i++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* iPtr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Ptr = " &lt;&lt; iPtr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s 0x0000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ment (iP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Ptr = " &lt;&lt; iPtr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s 0x00000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 to C++ Reference Types - Reference Types and Pointers 1.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See the ARM, pages 153-1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One cannot define pointers to references and consequently 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arrays of references.  The latter is true since int &amp; v[ ] wi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mplicitly create a pointer to a reference:  v[1] -&gt; *(v+1) thu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pointer to a referen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f the reference refers to a const, (const int&amp; myRef=10),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emporary object is created and initialized to 10.  The refe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becomes a name for that obje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n this example, if one tries to use number as the reference,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a temporary would be created since an array is implicitly a con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get(char* &amp;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number[5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numPtr = 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(numP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umbe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get(char * &amp;num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Enter a numbe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n &gt;&gt; 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Managing Memory using new and dele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ing  Objects 1.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growString (char *myString, char *aString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tuff[] = {" is ", "getting ", "longer "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 = new char [strlen ("My string") +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py (s, "My string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 = 0; i&lt; 3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 = growString(s, stuff[i]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s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ynamically grow a string by adding a string of characters to the tai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growString(char *myString, char *aSt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tString = new char [strlen(myString) + strlen(aString) + 1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py (tString, myString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cat (tString, aString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ete[] myString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tString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Scope Qualifier Operator 1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Using the scope operator to associate a definition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decla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() {siz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(int a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z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::Array(int a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z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 c(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C size is: "&lt;&lt; c.size&lt;&lt;endl&lt;&lt;"B size is: "&lt;&lt;b.size&lt;&lt;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 to C++ - Scope - File and Multiple Local Scopes 1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 i = 1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t &lt;&lt; "At file scope i = " &lt;&lt; :: i &lt;&lt; end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(int i = 0; i&lt; 3; i++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t &lt;&lt; "\tLocal Scope 1 i = " &lt;&lt; i &lt;&lt; end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(int i = 4; i &lt; 7; i++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t &lt;&lt; "\t\t Local Scope 2 i = " &lt;&lt; i &lt;&lt; end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t &lt;&lt; "\tLocal Scope 2 i = " &lt;&lt; i &lt;&lt; endl &lt;&lt; end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t &lt;&lt; "\tLocal Scope 1 i = " &lt;&lt; i &lt;&lt; end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 This will pri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file scope i =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1 i =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1 i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1 i =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2 i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Scope 1 i =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6-26T03:33:18Z</cp:lastPrinted>
  <dcterms:modified xsi:type="dcterms:W3CDTF">1999-06-26T03:33:42Z</dcterms:modified>
  <cp:revision>10827</cp:revision>
  <dc:subject/>
  <dc:title>No Slide Title</dc:title>
</cp:coreProperties>
</file>