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040" y="4784400"/>
            <a:ext cx="579600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040" y="47844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32040" y="47844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621880" y="8190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82080" y="8190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62040" y="47844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621880" y="47844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82080" y="47844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2440" y="171360"/>
            <a:ext cx="5829120" cy="20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2040" y="47844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32040" y="47844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62040" y="4784400"/>
            <a:ext cx="579600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9360" y="717480"/>
            <a:ext cx="6115320" cy="30240"/>
            <a:chOff x="9360" y="717480"/>
            <a:chExt cx="6115320" cy="30240"/>
          </a:xfrm>
        </p:grpSpPr>
        <p:sp>
          <p:nvSpPr>
            <p:cNvPr id="3" name=""/>
            <p:cNvSpPr/>
            <p:nvPr/>
          </p:nvSpPr>
          <p:spPr>
            <a:xfrm>
              <a:off x="9360" y="717480"/>
              <a:ext cx="601992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4760" y="747720"/>
              <a:ext cx="601992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754200" y="8548560"/>
            <a:ext cx="60213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8610480"/>
            <a:ext cx="2133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1999 Oxford Consulting, Lt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2895480" y="8686800"/>
            <a:ext cx="15242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 </a:t>
            </a:r>
            <a:fld id="{B619D3DE-08D1-4BA3-9E50-AE6ED5484F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335560" y="8648640"/>
            <a:ext cx="1065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9 March 1999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++ Templates - Function Templates 1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Generic min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Only type parameters in the function template.   A non-typ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parameter with a default value is used in the function declar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Define the function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min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      one type parameter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      one non-type parameter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mplate &lt;class Typ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min(Type a, int b=2) {return ((a&lt;b)?a:b)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Define some variables of different typ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=5,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oat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=4.5, 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The value of the type parameter is int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the default value is overridd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 = min(r,7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The value of the type parameter is float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the default value is us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 = min(n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ecution will pr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min values are: t = 5 and p =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The min values are: t = " &lt;&lt; t &lt;&lt; " and p = " &lt;&lt; p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++ Templates - Class Templates 2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simple ve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mplate &lt;class T, int n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Ve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ctor() {}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default constru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ctor (T v0)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initialize elements to v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&amp; operator [](int i)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specify subscripting opera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displa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 vect[n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mplate &lt;class T, int n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ctor&lt;T,n&gt;::Vector(T v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initialize the elements of the ve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(int i=0; i&lt; n; i+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ct[i] = v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mplate &lt;class T, int n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&amp; Vector&lt;T,n&gt;::operator [](int 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vect[i-1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mplate &lt;class T, int n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Vector&lt;T,n&gt;::display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determine the size of //the ve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j = (sizeof (vect))/(sizeof (T));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(int i = 0; i&lt; j; i+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vect[i] &lt;&lt; " 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ctor &lt;int,3&gt; iv0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declare a vector of integ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ctor &lt;float, 5&gt; fv0;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declare a vector of floa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ctor &lt;char, 4&gt; cv0('c')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declare a vector of cha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(int i=1; i&lt; 4; i+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v0[i]=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(int i=1; i&lt;6; i+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v0[i]= i+i/10.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  Execution will pr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1 2.2 3.3 4.4 5.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 c c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v0.displa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v0.displa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v0.displa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C++ Templates - Class Templates 2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ing a templated class as a type parame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mplate &lt;class T1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M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1(T1 aValue) : myData(aValue)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1() : myData(2)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1 myD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how() {cout &lt;&lt; "What am I now????"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mplate &lt;class T1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M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2(T1 aValue) : myData0(aValue)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1 myData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how() {cout &lt;&lt; myData0.myData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1 get() {return myData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1&lt;int&gt; mine(1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1&lt;int&gt; mine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2&lt; M1&lt;int&gt; &gt; yours(min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ne.sho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s.sho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++ Templates - Class Templates 2.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mplates and Inheritance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Base and Derived are the Same Typ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mplate &lt;class 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T aValue) : myData0(aValue)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) : myData0(48)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 myData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how() {cout &lt;&lt; myData0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fine the Derived Class - Publicly inherit from 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mplate &lt;class 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erivedClass : public BaseClass&lt;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 (T aValue) : myData(aValue)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() : myData(20)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 myD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how() {cout &lt;&lt; myData &lt;&lt; myData0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Create a couple of class insta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&lt;float&gt; mine(15.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 &lt;char&gt; yours('a'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ecution will pr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ne.sho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s.sho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++ Templates - Class Templates 2.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Default Parame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Define a templated clas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The second type parameter has a default value of 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mplate &lt;class T1, class T2 = in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M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1(T1 aValue0, T2 aValue1) : myData(aValue0)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myData0(aValue1)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1(T1 aValue) : myData(aValue), myData0(10)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1() : myData((T1)20), myData0((T2)3)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1 myD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2 myData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how() {cout &lt;&lt; myData &lt;&lt; "  "  &lt;&lt; myData0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Declare a couple of insta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1&lt;float&gt; m1(15.3f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1&lt;int, char&gt; m2(21, 'c'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1.sho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2.sho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ecution will pr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.3  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    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++ Templates - Class Templates 2.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Add Function - Specialize for Str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string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  Declare the template function ad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mplate &lt;class Type&gt; Type add(Type a, Type b) {return a+b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  Specialize the add template for the string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* add(char* aString1, char* aString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data = new char [strlen (aString1)+ strlen(aString2) + 1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cpy(data, aString1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cat (data, aString2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d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a = 10, b = 2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oat c = 10.5,  d = 11.7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e = 'a', f = 'b'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* g = "You're just ", *h = "stringing me along.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ecution will pr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0, 22.2 the integer sum of a and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're just stringing me alo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&lt; add(a,b) &lt;&lt; "  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&lt; add(c,d)  &lt;&lt; "  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&lt; add(e,f)  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dd(g,h) 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++ Templates - Class Templates 2.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Add Function - Specialize for String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- Explicit Template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string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  Declare the template function ad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mplate &lt;class Type&gt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add(Type a, Type b) {return a+b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  Specialize the add template for the string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* add(char* aString1, char* aString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data = new char [strlen (aString1)+ strlen(aString2) + 1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cpy(data, aString1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cat (data, aString2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d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Explicit template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uble add(double a, double b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a = 10, b = 2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oat c = 10.5,  d = 11.7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e = 'a', f = 'b'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* g = "You're just ", *h = "stringing me along.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Will print 30, 22.2, the integer sum of a and b, th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You're just stringing me along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dd(a,b)   &lt;&lt; "  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&lt; add(c, d)  &lt;&lt; "  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&lt; add(e, f) 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dd(g, h) 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Without the explicit template function, this would be 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ompile err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With the explicit template function, the float, d, is cast to a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double and will print 21.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dd(a,d)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James K. Peckol</dc:creator>
  <dc:description/>
  <dc:language>en-US</dc:language>
  <cp:lastModifiedBy>Dr. James K. Peckol</cp:lastModifiedBy>
  <cp:lastPrinted>1999-03-29T00:09:10Z</cp:lastPrinted>
  <dcterms:modified xsi:type="dcterms:W3CDTF">1999-06-26T07:05:50Z</dcterms:modified>
  <cp:revision>10801</cp:revision>
  <dc:subject/>
  <dc:title>No Slide Title</dc:title>
</cp:coreProperties>
</file>