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419-E835-4405-9D42-34B47EA1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BBD-E8EC-4D3B-84AA-F5B298D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F67-EE20-40D1-A09F-F4FD0857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560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27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560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361-7396-4921-8210-9C6EFD96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A2E-7F4F-4BAA-A530-922F0AB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2E1-3970-4EF4-9635-B4D65A3C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EDB-4E31-493E-99C6-35696891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D1A-8B21-4E5C-97B8-411D3488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1F3-B0C2-46BC-B43E-1A8DC26C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457-3FCE-4C12-ACC7-7412567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40E-C7CD-4DF9-84FF-24B093BF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9A0-452A-4A28-9E72-2CD70A5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24672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1 Februar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907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59CCFC01-B26D-4F86-B9B9-9A8035679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6668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103400"/>
            <a:ext cx="80262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19160" y="604692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hanced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 only permitted to have dat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s to operate on such data appeared else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oci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data depended upon program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 may have function members as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package combines data and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ation of data and functions treated as singl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B0D-EA8C-48CD-9726-EA7028FEDE1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D1C17-DF4D-4DC5-9265-444556FD527A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well defined persistent public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access specifi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e implementation of th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 and protected members can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ality remains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8D7-4D52-4D10-AAC3-E6F5BF0160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1D104-814A-43C3-AF1E-ADA3CD199C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77680" y="2163600"/>
            <a:ext cx="2123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ivate by defa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19520" y="2514600"/>
            <a:ext cx="167616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320-E766-4D87-94E1-0A72D23800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D41FA-EB7D-4038-8BF4-D09D6ACBE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11200" y="1987560"/>
            <a:ext cx="1965240" cy="1359000"/>
          </a:xfrm>
          <a:prstGeom prst="rect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21080" y="2041560"/>
            <a:ext cx="793080" cy="3668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6960" y="2558880"/>
            <a:ext cx="817560" cy="3668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95760" y="2728800"/>
            <a:ext cx="9842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41800" y="2521080"/>
            <a:ext cx="1962360" cy="1358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0480" y="2781360"/>
            <a:ext cx="1218240" cy="397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55680" y="3244680"/>
            <a:ext cx="1020240" cy="366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B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6760" y="4052880"/>
            <a:ext cx="764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new instance of a class gets distinct copies of all data memb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d among all in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D70-E357-4374-A293-B9C11FA5B6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62654-D7C2-44BB-BA1F-ACF629F05D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C42-057A-407B-8C7F-EB5FFAA661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489AA-DCDD-4B71-A70B-DE6CDC7EC2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Initialization - Constructors and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 function with the same name as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ible for initializing class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overloaded to have zero or more paramet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Name (arg0, arg1, ... argn) {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gs are op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854-6DB0-45BC-A681-CC38A5DF48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0D9A6-564F-4BD8-91DD-E7BB535F9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Initialization - Con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structor is invoked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ever class object declar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at time full type checking of the definition is app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s level of accessibility of section in which decl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2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cation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vokes the constructor for class 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new fails the constructor not inv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malloc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FC5-76B8-42DE-9613-8BBDA49420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55739-D51E-47CC-B5B4-2EAFB4142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Initialization - Constructors and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member fun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 the same name as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preceded by the ~ 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means to de-initialize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 no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specif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type or va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be overloa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50000" y="3886200"/>
          <a:ext cx="97956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0000" y="3886200"/>
                    <a:ext cx="9795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612-1B81-4419-BEE8-E5153643B5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9B8D1-BD5F-484B-A6ED-ED1668E0A2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Initialization - Constructors and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to be de-initialized must have been allocated by 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called explicitly to clean up without dealloc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className ( ) {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ar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B0B-B468-4DA8-AF07-DC43D0D999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CC4C8-23F4-4E8E-883C-68BAA7F869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Initialization - Constructors and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tructor inv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ever delete operator applied to an objec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ed by delete before freeing sto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object exits sco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before program termin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fre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ED2-AAA3-475F-BF74-A8A2F47472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7A795-A3FE-4D7E-B2F2-436B4FA54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Initialization - Constructors and De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ant to remember…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stru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s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alloc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initializes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de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             constructor             destructor              de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541008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541008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541008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7D3-DAFD-47E5-8124-65FE80BEBE7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16080-C0F7-4ABD-A5B7-32F028DE35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d class arose in Simula 67 used to describe new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s in an object oriented language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h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48440" y="4405320"/>
          <a:ext cx="10908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4405320"/>
                    <a:ext cx="10908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E18-63E2-4A53-99C0-EB6D89A034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B2DFB-D3D1-4C00-992A-0B033305DD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1200" y="3535200"/>
          <a:ext cx="1681200" cy="13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1200" y="3535200"/>
                    <a:ext cx="168120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BF0-5857-48B8-B2EE-0DE150D7CC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061F4-C9FB-46A2-B4C6-06576D29A0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nager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 the class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ation / de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or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con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Manager Func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 / 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k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icitly by the comp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15200" y="472428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BA7-CDE9-4035-8357-51935E53AC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6B533-05D2-4327-A880-B0ADE0184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mplementer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-22392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and prov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bilities associated with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-22392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k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icitly by the progra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-22392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 portion of the public interface to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15200" y="3886200"/>
            <a:ext cx="1432080" cy="11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7EF-4643-4621-BF44-95C27E10FD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DD519-EAED-492B-AA5E-1FC9283D0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ck() { head = NULL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ush (Entry aValue) { add the value and set new head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y  pop() { set new head and return value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y* hea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002360" y="3943440"/>
          <a:ext cx="183672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360" y="3943440"/>
                    <a:ext cx="18367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988-5A05-4EB0-9D6C-2E127B8A131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DAD9F-2718-4575-AD0F-92E995F774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elper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4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ry out auxiliary ta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4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invoked (typically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icitly by progra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4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ically dependent upon the underlying data stru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4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ly declared 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113688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175-36E6-4868-B61C-22C9265D49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49315-1F14-4F68-8B2A-484B41C6FC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cess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 access to otherwise protected or private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k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icitly by the progra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ining component of the public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BA1-996D-42CD-A0A0-5C842A53DDF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F75D2-F4CA-48DB-8114-50BC625F3D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Overloading Class Member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ember Functions ca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same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ignature is u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 rules as non-member functions applied to disambigu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provide implementation for each overloaded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72400" y="4724280"/>
            <a:ext cx="84780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EA3-ABD9-4BA5-AA42-1E5BE6E159F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B48A3-93E8-47F7-8A93-304C0057C9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Name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C+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3 kinds of scope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999120" y="3166920"/>
          <a:ext cx="773280" cy="10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99120" y="3166920"/>
                    <a:ext cx="7732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313320" y="4724280"/>
          <a:ext cx="37008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13320" y="4724280"/>
                    <a:ext cx="370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913520" y="4572000"/>
          <a:ext cx="53352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13520" y="4572000"/>
                    <a:ext cx="5335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028-34E7-4462-A8F7-B8C7EF3C7B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8DDF4-BD4A-4DBD-9891-29CD80817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Name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ion of the program not contained within the defini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er most scope of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lo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470640" y="4092480"/>
          <a:ext cx="160668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0640" y="4092480"/>
                    <a:ext cx="16066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793-D6FD-440D-8D87-96A7ED8208F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762AE-35C9-4A57-9129-C0767C7C86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Name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ion of the program (in gene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ed within the definition of a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s distinct local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n a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block maintains an associated local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se variables are local to the enclosing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21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scopes can be nes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80D-9D7D-4ED5-8A2E-40BE972B1C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B7A20-FD31-4196-A2BD-248AF6D2CB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++ cla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38736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s entities with common characteristics into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38736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38736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ion of data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38736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f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4B7-C6C0-4720-8EB2-B1DA8E15C7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0AC80-5896-407F-B8B4-1CC297E03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Name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class represents a distinct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 func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ed as within the scope of their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004160" y="4268880"/>
          <a:ext cx="137772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4160" y="4268880"/>
                    <a:ext cx="137772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DDF-8281-404F-A234-0B7D1AEC23C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11563-9EFB-4157-A00C-9DF0D2E315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Un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 syntax is based upon that for structures and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 N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1 var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2 var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n var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- union variable n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s as the type spec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i  - any of the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   -  variable of typ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A12-D9D3-43DE-A99E-966E0C17A7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D58DF-0F4F-4E73-B18A-F8D7C1C6B0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Un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comparison with a clas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ion C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hold one type of variable at a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ion Can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 static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 as a member instance of a class that define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C5F-1B22-40F8-BBAA-83C2181B9E4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62655-6D0E-4139-B566-CC3A1CB5BC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Un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 M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intVal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loatVal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 charVal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e aMi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57520" y="467028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42560" y="5046840"/>
            <a:ext cx="43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40640" y="5442120"/>
            <a:ext cx="61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359160" y="3968640"/>
            <a:ext cx="3568680" cy="596880"/>
            <a:chOff x="3359160" y="3968640"/>
            <a:chExt cx="3568680" cy="596880"/>
          </a:xfrm>
        </p:grpSpPr>
        <p:sp>
          <p:nvSpPr>
            <p:cNvPr id="171" name=""/>
            <p:cNvSpPr/>
            <p:nvPr/>
          </p:nvSpPr>
          <p:spPr>
            <a:xfrm>
              <a:off x="3359160" y="3968640"/>
              <a:ext cx="1739880" cy="59688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11640" y="3968640"/>
              <a:ext cx="901800" cy="596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6040" y="3968640"/>
              <a:ext cx="901800" cy="596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352680" y="5715000"/>
            <a:ext cx="35816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5334120"/>
            <a:ext cx="1752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02920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B7C-2C62-4425-9211-39290FFC58C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9D113-32E3-46B1-92D1-9A4970EC4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Un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 Acces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union member exactly like struct o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Name.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Ptr -&gt;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e 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.intVal = 10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 will hold an 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.charVal = ‘a’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 will hold a 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 can 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- like a struct is the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45E-946F-4C96-A291-C23117870B1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9E54D-A7AA-472A-98D8-5C48E822D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 - Un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 can be initialized only with value of type of first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onymous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 no name t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llowed by object 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have private or protected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have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defined at file scope … Must be declared st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986-74FA-40E6-B781-72422D1939F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A03BF-C2EC-4ADD-B0A3-55D7201AC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have defined 3 variations on the basic class data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classKey&gt; &lt;className&gt; [:baseList] {&lt; member list&gt;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, struct,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N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of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of classes the class is derived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 li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and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349-922D-4C99-9EA5-F3764BD34D5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BE7B8-A08F-4F06-B625-F2EFDE34AC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N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Veh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hicle myVehicl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hicle * rentalVehicle = &amp;my Vehicl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354720" y="2946240"/>
          <a:ext cx="186228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2946240"/>
                    <a:ext cx="18622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8BC-6D43-4B19-9D0A-6B6651672B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E5C65-665A-46B3-942C-770E257634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as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es the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per case by conven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lps to distinguish from  variable or const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stanc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ritten in lower 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ass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closed in curly br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ins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inated with a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C6E-20F0-4961-BD90-03CFDC51D7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404A3-577F-44C3-A93B-589985D285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ible to general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function or class within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data and function members that fol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ailable to everyone to use or modif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511-D79F-4546-B190-AD79EF2287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5260F-B470-465E-ADAF-5FAC59BF0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ible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emb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 named as 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 of derived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data and function members that follow…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e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outs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e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members and members of derived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9440" y="1903320"/>
          <a:ext cx="102384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9440" y="1903320"/>
                    <a:ext cx="102384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8CE-FCCF-4096-BAB5-5BBD9C708B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EF0D8-37E2-4122-9438-092A5530D0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restric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ible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 named as 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data and function members that fol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rom every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one can change from outside the struct or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289560" y="1728720"/>
          <a:ext cx="64476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9560" y="1728720"/>
                    <a:ext cx="6447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144-BA46-471C-A831-E6153AED98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1BCF3-B48F-47FB-9E9B-40991C6ABF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9520" y="2217600"/>
            <a:ext cx="273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ccess Restriction Increa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13240" y="3594240"/>
            <a:ext cx="59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94000" y="3011400"/>
            <a:ext cx="3376440" cy="438120"/>
            <a:chOff x="1494000" y="3011400"/>
            <a:chExt cx="3376440" cy="438120"/>
          </a:xfrm>
        </p:grpSpPr>
        <p:sp>
          <p:nvSpPr>
            <p:cNvPr id="73" name=""/>
            <p:cNvSpPr/>
            <p:nvPr/>
          </p:nvSpPr>
          <p:spPr>
            <a:xfrm>
              <a:off x="3751200" y="3011400"/>
              <a:ext cx="1119240" cy="43812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4040" y="3011400"/>
              <a:ext cx="1116000" cy="438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94000" y="3011400"/>
              <a:ext cx="1118880" cy="43812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44880" y="3102120"/>
              <a:ext cx="77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5520" y="3102120"/>
              <a:ext cx="995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tec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56720" y="3102120"/>
              <a:ext cx="70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541520" y="2738520"/>
            <a:ext cx="206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9360" y="4100400"/>
            <a:ext cx="1585800" cy="168444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35120" y="3178080"/>
            <a:ext cx="93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78120" y="3649680"/>
            <a:ext cx="93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2480" y="4635360"/>
            <a:ext cx="909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229440" y="3505320"/>
            <a:ext cx="247680" cy="56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629040" y="3962520"/>
            <a:ext cx="7621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61A-1976-4502-99AE-BD4C1E7C66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89CB5-C323-4F63-83DE-B739EEE331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6-26T06:45:33Z</cp:lastPrinted>
  <dcterms:modified xsi:type="dcterms:W3CDTF">1999-06-26T06:45:48Z</dcterms:modified>
  <cp:revision>10864</cp:revision>
  <dc:subject/>
  <dc:title>No Slide Title</dc:title>
</cp:coreProperties>
</file>