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2720" y="3646800"/>
            <a:ext cx="77277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4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5600" y="121896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8120" y="121896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2720" y="364680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5600" y="364680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8120" y="364680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4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2720" y="3646800"/>
            <a:ext cx="77277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, 1999 Oxford Consulting, L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066680"/>
            <a:ext cx="802656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103400"/>
            <a:ext cx="802620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19160" y="6046920"/>
            <a:ext cx="802656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004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</a:t>
            </a:r>
            <a:fld id="{06B503A7-FA67-468B-B4AA-0A04577D42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315200" y="624852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29 March 1999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32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of the ongoing development of the C++ langu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32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gral part of the larger C++ Standard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Template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772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Temp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20000"/>
              </a:lnSpc>
              <a:spcBef>
                <a:spcPts val="499"/>
              </a:spcBef>
              <a:buNone/>
              <a:tabLst>
                <a:tab algn="l" pos="0"/>
                <a:tab algn="l" pos="74772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late Instant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74772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matches must be consistent.  Only trivial promotions a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57440" indent="0">
              <a:spcBef>
                <a:spcPts val="400"/>
              </a:spcBef>
              <a:buNone/>
              <a:tabLst>
                <a:tab algn="l" pos="0"/>
                <a:tab algn="l" pos="74772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&amp; to const int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74772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74772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n-Type formal parameters must match without non-trivi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rsion or promo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 Call Re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ine all non-template 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an exact mat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ll that ver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multiple match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ile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ine all template 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an exact mat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ntiate then call that ver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multiple match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ile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-examine all non-template 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ly call resolution rules for overloaded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927840" y="5040360"/>
          <a:ext cx="1530360" cy="9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7840" y="5040360"/>
                    <a:ext cx="15303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84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 Temp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4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285840">
              <a:lnSpc>
                <a:spcPct val="23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ularly useful for making classes gener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0">
              <a:lnSpc>
                <a:spcPct val="2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285840">
              <a:lnSpc>
                <a:spcPct val="23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t application is container 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948200" y="5214960"/>
          <a:ext cx="2112840" cy="11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48200" y="5214960"/>
                    <a:ext cx="21128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79320" indent="0">
              <a:spcBef>
                <a:spcPts val="499"/>
              </a:spcBef>
              <a:buNone/>
              <a:tabLst>
                <a:tab algn="l" pos="0"/>
                <a:tab algn="l" pos="919080"/>
                <a:tab algn="l" pos="114300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 Temp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79320" indent="0">
              <a:spcBef>
                <a:spcPts val="499"/>
              </a:spcBef>
              <a:buNone/>
              <a:tabLst>
                <a:tab algn="l" pos="0"/>
                <a:tab algn="l" pos="919080"/>
                <a:tab algn="l" pos="114300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79320" indent="0">
              <a:spcBef>
                <a:spcPts val="499"/>
              </a:spcBef>
              <a:buNone/>
              <a:tabLst>
                <a:tab algn="l" pos="0"/>
                <a:tab algn="l" pos="919080"/>
                <a:tab algn="l" pos="114300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 Templ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285840"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919080"/>
                <a:tab algn="l" pos="114300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late 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0">
              <a:spcBef>
                <a:spcPts val="451"/>
              </a:spcBef>
              <a:buNone/>
              <a:tabLst>
                <a:tab algn="l" pos="0"/>
                <a:tab algn="l" pos="919080"/>
                <a:tab algn="l" pos="114300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285840"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919080"/>
                <a:tab algn="l" pos="114300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 Class Defin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79640" indent="0">
              <a:spcBef>
                <a:spcPts val="451"/>
              </a:spcBef>
              <a:buNone/>
              <a:tabLst>
                <a:tab algn="l" pos="0"/>
                <a:tab algn="l" pos="919080"/>
                <a:tab algn="l" pos="114300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79640" indent="0">
              <a:spcBef>
                <a:spcPts val="451"/>
              </a:spcBef>
              <a:buNone/>
              <a:tabLst>
                <a:tab algn="l" pos="0"/>
                <a:tab algn="l" pos="919080"/>
                <a:tab algn="l" pos="114300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late &lt; class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… class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..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79640" indent="0">
              <a:spcBef>
                <a:spcPts val="451"/>
              </a:spcBef>
              <a:buNone/>
              <a:tabLst>
                <a:tab algn="l" pos="0"/>
                <a:tab algn="l" pos="919080"/>
                <a:tab algn="l" pos="114300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Class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79640" indent="0">
              <a:spcBef>
                <a:spcPts val="451"/>
              </a:spcBef>
              <a:buNone/>
              <a:tabLst>
                <a:tab algn="l" pos="0"/>
                <a:tab algn="l" pos="919080"/>
                <a:tab algn="l" pos="114300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79640" indent="0">
              <a:spcBef>
                <a:spcPts val="451"/>
              </a:spcBef>
              <a:buNone/>
              <a:tabLst>
                <a:tab algn="l" pos="0"/>
                <a:tab algn="l" pos="919080"/>
                <a:tab algn="l" pos="114300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79640" indent="0">
              <a:spcBef>
                <a:spcPts val="451"/>
              </a:spcBef>
              <a:buNone/>
              <a:tabLst>
                <a:tab algn="l" pos="0"/>
                <a:tab algn="l" pos="919080"/>
                <a:tab algn="l" pos="114300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 Temp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the same template header as the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instantiated when the compiler first sees a call to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mplate &lt; class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… class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n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1..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Type ClassName&lt; class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… class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n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1..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:: functionName (arg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nction bod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36692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 Temp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36692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36692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c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136692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templated class can have static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136692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type has an associated set of static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136692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6692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ecla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136692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c T my Function (args) { myFunction body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136692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c int my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 must be defined outside of the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240000"/>
              </a:lnSpc>
              <a:spcBef>
                <a:spcPts val="451"/>
              </a:spcBef>
              <a:buNone/>
              <a:tabLst>
                <a:tab algn="l" pos="0"/>
                <a:tab algn="l" pos="136692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efin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36692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late &lt;class T&gt; int MyClass&lt;T&gt;::myValue = aVal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36692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76560" indent="0">
              <a:spcBef>
                <a:spcPts val="499"/>
              </a:spcBef>
              <a:buNone/>
              <a:tabLst>
                <a:tab algn="l" pos="0"/>
                <a:tab algn="l" pos="103032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 Temp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1080" indent="-55440"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103032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ward Declarations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1080" indent="0">
              <a:lnSpc>
                <a:spcPct val="220000"/>
              </a:lnSpc>
              <a:spcBef>
                <a:spcPts val="451"/>
              </a:spcBef>
              <a:buNone/>
              <a:tabLst>
                <a:tab algn="l" pos="0"/>
                <a:tab algn="l" pos="103032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late &lt;class T&gt; class MyClass  //  forward 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1080" indent="0">
              <a:lnSpc>
                <a:spcPct val="220000"/>
              </a:lnSpc>
              <a:spcBef>
                <a:spcPts val="451"/>
              </a:spcBef>
              <a:buNone/>
              <a:tabLst>
                <a:tab algn="l" pos="0"/>
                <a:tab algn="l" pos="103032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1080" indent="-55440"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103032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and Friend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1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03032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late &lt;class T&gt; class My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108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103032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1080" indent="0">
              <a:spcBef>
                <a:spcPts val="451"/>
              </a:spcBef>
              <a:buNone/>
              <a:tabLst>
                <a:tab algn="l" pos="0"/>
                <a:tab algn="l" pos="103032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iend class YourClass&lt;T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1080" indent="0">
              <a:spcBef>
                <a:spcPts val="451"/>
              </a:spcBef>
              <a:buNone/>
              <a:tabLst>
                <a:tab algn="l" pos="0"/>
                <a:tab algn="l" pos="103032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1080" indent="0">
              <a:spcBef>
                <a:spcPts val="451"/>
              </a:spcBef>
              <a:buNone/>
              <a:tabLst>
                <a:tab algn="l" pos="0"/>
                <a:tab algn="l" pos="103032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1080" indent="0">
              <a:spcBef>
                <a:spcPts val="451"/>
              </a:spcBef>
              <a:buNone/>
              <a:tabLst>
                <a:tab algn="l" pos="0"/>
                <a:tab algn="l" pos="103032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 Temp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laring an In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late &lt;class T&gt; class My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Class &lt;char&gt; myInstanc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erve the use of &lt;type&gt; as part of the class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 Temp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ition and Decla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using header files, put the declaration and definition both in the header fi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lates as a type parame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value of a type parameter can be a built-in or user defined typ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ser defined type may be non-typed or typ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9581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913120"/>
                <a:tab algn="l" pos="3260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 Temp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280000"/>
              </a:lnSpc>
              <a:spcBef>
                <a:spcPts val="451"/>
              </a:spcBef>
              <a:buNone/>
              <a:tabLst>
                <a:tab algn="l" pos="0"/>
                <a:tab algn="l" pos="2913120"/>
                <a:tab algn="l" pos="3260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lates and Inheri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2913120"/>
                <a:tab algn="l" pos="3260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7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2913120"/>
                <a:tab algn="l" pos="3260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ivation works the same as with ordinary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41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2913120"/>
                <a:tab algn="l" pos="3260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can create a new template object from an existing temp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5840"/>
                <a:tab algn="l" pos="137484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d upon the notion of a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5840"/>
                <a:tab algn="l" pos="137484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variable that takes a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s its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5840"/>
                <a:tab algn="l" pos="137484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5840"/>
                <a:tab algn="l" pos="137484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0">
              <a:spcBef>
                <a:spcPts val="451"/>
              </a:spcBef>
              <a:buNone/>
              <a:tabLst>
                <a:tab algn="l" pos="0"/>
                <a:tab algn="l" pos="915840"/>
                <a:tab algn="l" pos="137484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 i, j, 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50960" indent="0">
              <a:spcBef>
                <a:spcPts val="451"/>
              </a:spcBef>
              <a:buNone/>
              <a:tabLst>
                <a:tab algn="l" pos="0"/>
                <a:tab algn="l" pos="915840"/>
                <a:tab algn="l" pos="137484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lares 3 vari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50960" indent="0">
              <a:spcBef>
                <a:spcPts val="451"/>
              </a:spcBef>
              <a:buNone/>
              <a:tabLst>
                <a:tab algn="l" pos="0"/>
                <a:tab algn="l" pos="915840"/>
                <a:tab algn="l" pos="137484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ype of the variables depends upon the value of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50960" indent="0">
              <a:spcBef>
                <a:spcPts val="451"/>
              </a:spcBef>
              <a:buNone/>
              <a:tabLst>
                <a:tab algn="l" pos="0"/>
                <a:tab algn="l" pos="915840"/>
                <a:tab algn="l" pos="137484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0">
              <a:spcBef>
                <a:spcPts val="451"/>
              </a:spcBef>
              <a:buNone/>
              <a:tabLst>
                <a:tab algn="l" pos="0"/>
                <a:tab algn="l" pos="915840"/>
                <a:tab algn="l" pos="137484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50960" indent="-21600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915840"/>
                <a:tab algn="l" pos="137484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les are of typ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50960" indent="-21600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915840"/>
                <a:tab algn="l" pos="137484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loa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les are of typ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50960" indent="-21600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915840"/>
                <a:tab algn="l" pos="137484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ser-defi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les are of typ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ser-defin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 Temp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2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ault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ively new feature to templ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default value can be specified in a template defin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ed by most newer compil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rland 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oft 4.0 and bey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late &lt;class T1, class T2 = i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My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 …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and Class Temp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23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y need to a special version of a template to handle types not easily included in an existing templ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280" indent="0">
              <a:lnSpc>
                <a:spcPct val="24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urnType functionName (args) { function body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28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ember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Name &lt; specialized type&gt; functionMember (arg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 function body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className &lt; specialized type&gt; { class body 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and Class Temp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3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icit Instanti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y wish to create a specific version of a function or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2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urnType functionName (arg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className &lt; explicit typ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inds of Temp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mit the development of generic algorith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2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mit the development of generic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73280" y="4276800"/>
          <a:ext cx="1207800" cy="173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4276800"/>
                    <a:ext cx="120780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l Synt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late &lt;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 normal declaration or defin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empl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++ keyw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or more formal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ormal parame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be written a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 parameter cannot have default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type parameter can have default val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l Syntax - Para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ilt-in - Non-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400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400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ha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400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loat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older compilers function templates cannot use non-type paramet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unction definition c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lass template can use non-type paramet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584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Temp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250000"/>
              </a:lnSpc>
              <a:spcBef>
                <a:spcPts val="451"/>
              </a:spcBef>
              <a:buNone/>
              <a:tabLst>
                <a:tab algn="l" pos="0"/>
                <a:tab algn="l" pos="91584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late &lt;class T&gt; T min (T var1, T var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584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function m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584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s two arguments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r1, var2 of type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584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turns a variabl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f type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584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584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late &lt;class T&gt; T min (T* ptVar1, T* ptVar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584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function m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584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s two argument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tVar1, ptVar2 of type pointer to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584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turns a variabl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f type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Temp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emplated function can be decl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2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late &lt;class T&gt; inline T min (T var1, T var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Temp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riting Function Temp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 a specific version for each fixed typ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ile and test each ver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lace the fixed type with the type parame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the template head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++ Templ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Temp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late Instant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ormal parameters in the function signature a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ined in turn.  A return type cast does not mat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687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plate &lt;class T&gt; T f(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68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 b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68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uble aValue = (double)  f(b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68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 has the value i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formal parameter involving a type parameter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ed with the corresponding argument in the functio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l.  The match binds the type parame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James K. Peckol</dc:creator>
  <dc:description/>
  <dc:language>en-US</dc:language>
  <cp:lastModifiedBy>Dr. James K. Peckol</cp:lastModifiedBy>
  <cp:lastPrinted>1999-03-28T23:25:36Z</cp:lastPrinted>
  <dcterms:modified xsi:type="dcterms:W3CDTF">1999-06-26T07:05:26Z</dcterms:modified>
  <cp:revision>10795</cp:revision>
  <dc:subject/>
  <dc:title>No Slide Title</dc:title>
</cp:coreProperties>
</file>