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6858000" cy="9144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6218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82080" y="8190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204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6218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82080" y="4784400"/>
            <a:ext cx="186624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2440" y="171360"/>
            <a:ext cx="582912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2040" y="47844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2040" y="819000"/>
            <a:ext cx="282816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040" y="4784400"/>
            <a:ext cx="5796000" cy="36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2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9360" y="717480"/>
            <a:ext cx="6115320" cy="30240"/>
            <a:chOff x="9360" y="717480"/>
            <a:chExt cx="6115320" cy="30240"/>
          </a:xfrm>
        </p:grpSpPr>
        <p:sp>
          <p:nvSpPr>
            <p:cNvPr id="3" name=""/>
            <p:cNvSpPr/>
            <p:nvPr/>
          </p:nvSpPr>
          <p:spPr>
            <a:xfrm>
              <a:off x="9360" y="71748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4760" y="747720"/>
              <a:ext cx="60199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54200" y="8548560"/>
            <a:ext cx="60213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8610480"/>
            <a:ext cx="213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895480" y="8686800"/>
            <a:ext cx="1524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FCDFE7F4-0687-4C48-AAD8-3F2FB1E95B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35560" y="8648640"/>
            <a:ext cx="1065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 March 199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Simple Inherit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A public derivation from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derivedValu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() {return derived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DerivedValue (int aValue) {derived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ld.baseValue = 15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Value &lt;&lt; endl;                //  will print 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DerivedValue() &lt;&lt; endl;    //  will print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205740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0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Value0 &lt;&lt; endl;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Function() &lt;&lt; endl;       //  will print 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Function() &lt;&lt; endl;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DerivedValue() &lt;&lt; endl;   //  will print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2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Private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rivate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derivedValu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int aDerived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int aDerivedValue, int aBase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BaseValue() {return base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BaseValue 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Derived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() {return derived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DerivedValue (int aValue) {derived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::DerivedClass(int aValue):BaseClass(1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Valu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::DerivedClass(int aValue, int aBaseValue):BaseClass(aBaseValu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Valu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(5, 35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20 - baseValue 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child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Base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35 - baseValue 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Derived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Derived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5 - derive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Simple Inheritance - Private Derivation followed by 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1 : private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1() {derivedValue1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BaseValue() {return base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baseValue is inherited privately from DerivedClas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2 : public DerivedClas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() {derivedValue2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1 child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 child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child1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 - priv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1.getBase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1.derivedValue1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ut &lt;&lt; child2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 - priv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from DC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2.getBase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2.derivedValue1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0 - public u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2.derivedValue2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2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Simple Inheritance - Private Derivation - Exemptions from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Private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0 = 20; baseValue1 = 3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Function() {return 15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rivate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derivedValu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Uncover BaseClass private memb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::baseValue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::baseFunctio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Derived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() {return derived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DerivedValue (int aValue) {derived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0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Value0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ompile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ut &lt;&lt; child.baseValue1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Function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Derived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3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Protected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1 : private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1() {derivedValue1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BaseValue() {return base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2 : protected DerivedClas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() {derivedValue2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DerivedClas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1() {return derivedValue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BaseValue2() {return getBaseValue(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96736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1 child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 child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child1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 - priv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1.getBase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0 - accessible 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member function on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1.derivedValue1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0 - 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ut &lt;&lt; child2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-priv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from DC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ut &lt;&lt; child2.getBase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otec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under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2.getBaseValue2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0 - accessible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member function on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ut &lt;&lt; child2.derivedValue1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otec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under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2.getDerivedValue1() &lt;&lt; endl; // 10 - accessible 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member function on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2.derivedValue2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20 - 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3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Simple Inheritance - Protected Members Under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baseValue = 15; derivedValu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BaseValue() {return base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ut &lt;&lt; base.baseValue &lt;&lt; endl;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 - protec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cout &lt;&lt; child.baseValue &lt;&lt; endl;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mpile error - protect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Base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5 - accessible b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member  function on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derived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0 - 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Base Class Initializ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derivedValu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int aDerived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() {return derived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DerivedValue (int aValue) {derived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constructor for DerivedClass is used to initialize the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member baseValue of the base class to the constant value 1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::DerivedClass(int aValue):BaseClass(1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Valu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(5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Derived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 Derivation - Single Inheritance 4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Simple Inheritance - Conversion Under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ui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 (Fruit aFrui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Ref(Fruit&amp; aFrui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Ptr (Fruit* aFrui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() {stem = 1; seeds = 4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Fruit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eed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pple : public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() {skin = 2; stem = 3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Appl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ki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 a, *aPtr = &amp;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 f, *fPtr = &amp;f, *bPt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Apple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identify() &lt;&lt; "  " &lt;&lt; f.identify() &lt;&lt; "  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onversions under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rived class object converted to a public base class 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ow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rived class reference converted to a public base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reference a is still an apple with a stem value of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owRef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prints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rived class pointer converted to public base class po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owPtr(aP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aPtr = new Frui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rror,no implici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onvers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stem = 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skin uninitial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nd undefin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xplicit cast - legal but dangero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tr = (Apple *)new Frui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Ptr-&gt;seeds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Ptr-&gt;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uninitial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Ptr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tr = new App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Ptr = aPt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tr -&gt; identify()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((Apple *) fPtr)-&gt;identify()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tr-&gt;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((Apple *) fPtr)-&gt;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(Fruit aFrui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Fruit.stem &lt;&lt; endl;              // returns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Fruit.identify()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return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Ref(Fruit&amp; aFrui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Fruit.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returns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ruit.stem = 7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stem =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Fruit.identify()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return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howPtr(Fruit* aFrui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Fruit-&gt;stem &lt;&lt; endl;            // returns 7 - chan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in showRef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Fruit-&gt;identify()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return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6376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4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Conversion Under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() {num = 1; denom = 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(int aNum, int aDenom) {num = aNum; denom = aDenom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or float() {return (float)num / float (denom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no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 a(1,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at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= (float)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0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= float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0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4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Conversion Under Der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() {num = 1; denom = 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(int aNum, int aDenom) {num = aNum; denom = aDenom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(int aNumber) {num = aNumber; denom = 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or float() {return float(num) / float (denom)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&amp; operator*(Fraction&amp; f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nu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no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&amp; Fraction::operator* (Fraction&amp; 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* tmp = new Fraction ((num*f.num),(denom*f.denom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*t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 = 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 b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 c(2, 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ion d = Fraction(4)*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.num &lt;&lt; "  " &lt;&lt; b.denom &lt;&lt; endl;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 3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d.num &lt;&lt; "  " &lt;&lt; d.denom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 8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862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hip - Copy Constructors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funct(A 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 {value = 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(int aValue) {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A&amp; a) {value = 5; cout &lt;&lt; "In copy constructor" 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a(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.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funct(A 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In funct ...5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...3 if there is no copy construct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funct ..." &lt;&lt; a.value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Membership - Copy Constructors 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 Constructors Under Inherit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funct(B b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 {value = 1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(int aValue) {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A&amp; a) {value = 5; cout &lt;&lt; "In A copy constructor" 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 : public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() {c = 'a'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(char aChar) {c = aChar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f A(b) not explicitly given, the copied value of b.value will be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(B&amp; b):A(b) {c = 'b'; cout &lt;&lt; "In B copy constructor" 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b('d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(b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.value &lt;&lt; "  " &lt;&lt; b.c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 and 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funct(B 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.value &lt;&lt; "  " &lt;&lt; b.c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5 and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4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Overriding Function Memb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value = 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() {value = 23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(int aValue) {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() {return 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value = 25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() {value = 16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(int aValue) {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() {return 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25  set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ld.se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6  set by defaul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value in set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ld.set(4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40  set by child.set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Class::get() &lt;&lt; endl;     //  0  set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ld.BaseClass::set(15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Class::get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5  set by base.set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5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Virtual Fun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() {stem = 1; seeds = 4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{return "Fruit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eed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pple : public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() {skin = 2; stem = 3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Appl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ki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 *fp = new App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 *ap = new App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-&gt;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fp-&gt;skin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rror - skin not 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member of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1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Base Class Initializ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derivedValu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int aDerived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int aDerivedValue, int aBase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() {return derived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DerivedValue (int aValue) {derived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 Derivation - Single Inheritance 5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Simple Inheritance - Virtual Fun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()  {stem = 1, seeds = 4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{return "Fruit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eed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pple : public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() {skin = 2, stem = 3;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Appl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ki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rabApple : public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abApple() {skin = 3, stem = 4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CrabAppl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 *fp = new App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 *ap = new App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 *cap = new CrabApp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-&gt;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fp-&gt;skin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skin not a member of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a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rab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5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Simple Inheritance - Virtual Functions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          Include non Virtual Fun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() {stem = 1; seeds = 4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{return "Fruit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eed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pple : public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() {skin = 2; stem = 3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Big Appl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char* name) {cout &lt;&lt; name &lt;&lt; endl; return "Appl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ki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rabApple : public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abApple() {skin = 3; stem = 4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CrabAppl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name = "An Apple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 *fp = new Apple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Unw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e *ap = new App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 *cap = new CrabApple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Unw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Big 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fp-&gt;stem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1 - still a Fruit Poi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cout &lt;&lt; fp-&gt;skin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skin not a member of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p-&gt;identify(name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n Apple - non virtu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function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a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rabAp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5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Virtual Functions - Access Prot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{return "A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:public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B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:public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C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:public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D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E:public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*a = new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= new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= new 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= new 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 *c = new 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cout &lt;&lt; c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rror - identify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 C is protec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6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Virtual Destruc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A() {cout &lt;&lt; "Destroying A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{return "A";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:public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()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B() {cout &lt;&lt; "Destroying B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B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:public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()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C() {cout &lt;&lt; "Destroying C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C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*a = new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ete a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Destroying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6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Virtual Destruc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~A() {cout &lt;&lt; "Destroying A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{return "A";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:public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()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B() {cout &lt;&lt; "Destroying B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B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:public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()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C() {cout &lt;&lt; "Destroying C" &lt;&lt; end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C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*a = new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a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returns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ete a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will print Destroying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Destroying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Destroying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5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Pure Virtual Fun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()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:public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()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B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C:public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()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identify() {return "C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A a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error - cannot have in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*b = new 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 = new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-&gt; 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Multiple Inheritance 7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Virtual Base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uit() {stem = 1; seeds = 4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identify() {return "Fruit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char *skin (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t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seed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Plum : public virtual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um() {seeds = 1; stem = 2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Plum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kin() {return "Smooth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Peach : public virtual Fru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ach() {stem = 3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Peach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kin() {return "Fuzzy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Nectarine : public Plum, public Pea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ctarine() {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* identify() {return "Nectarine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 *skin() {return "Smooth"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constructor for DerivedClass is used to initialize the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 member baseValue of the base class to the constant value 1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::DerivedClass(int aValue):BaseClass(1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Valu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constructor for DerivedClass is used to initialize the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member baseValue of the base class to the value of the vari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aBase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is value is passed in as an argument of the derived cla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::DerivedClass(int aValue,                          aBaseValue):BaseClass(aBaseValu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Value = a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5 initializes the instance of the Derived Class and 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initializes the data member inherited from the base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(5, 35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DerivedValue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ctarine *np = new Nectar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p-&gt;identify()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Nectar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p-&gt;skin() &lt;&lt; endl;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smoo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np-&gt;stem &lt;&lt; endl;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returns 3 - value set by Pea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2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Object Sli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 (int aValue = 0) : bVal (aValue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int f() { return bVa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 : public 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 (int aVal0 = 0, int aVal1 = 0) : Base (aVal0), dVal(aVal1) {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f() { return Base::f() + dVal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callV (Base b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Sum by value is "  &lt;&lt; b1.f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callR (Base&amp; b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Sum by reference is "  &lt;&lt; b1.f()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 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 b(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 d(10, 47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V(b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Sum by value is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V(d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Sum by value is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R(b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Sum by reference is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R(d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Sum by reference is 5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1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Default Initializ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 = 2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{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int aValu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() {return derived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DerivedValue (int aValue) {derived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The constructor for DerivedClass is used to supply default values 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nitialize the DerivedClass and BaseClass data membe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Note the default constructor has no bod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::DerivedClass() : derivedValue(15), BaseClass(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 chil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Value &lt;&lt; endl;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getDerivedValue() &lt;&lt; endl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will print 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1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Default Initializ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heritance / Initialization Ch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cout &lt;&lt; "In Base Class Default Constructor" 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Value = 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int aValue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cout &lt;&lt; "In Base Class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rivedClass1 publicly inherits from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1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1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1(int aValue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cout &lt;&lt; "In Derived Class1 Constructor"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Value1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rivedClass2 publicly inherits from DerivedClas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2 : public DerivedClas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(int aValue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cout &lt;&lt; "In Derived Class2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Value2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fault initialization of declared and inherited data members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nstances of DerivedClas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1::DerivedClass1() : derivedValue1(11), BaseClass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Derived Class 1 Default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Default initialization of declared and inherited data members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nstances of DerivedClass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::DerivedClass2() : derivedValue2(21), DerivedClass1(1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"In Derived Class 2 Default Constructor" &lt;&lt; 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main( void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 bas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 chil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base.baseValue &lt;&lt; endl;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0  - Use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Default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baseValue &lt;&lt; endl;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0  - Use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Default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through DerivedClass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Default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derivedValue1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12 - Uses DerivedClass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   Constructor throu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2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truct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t &lt;&lt; child.derivedValue2 &lt;&lt; endl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21 -  Uses DerivedClass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ault Co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171360"/>
            <a:ext cx="582912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++ Inherita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819000"/>
            <a:ext cx="5796000" cy="759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Classes Derivation - Single Inheritance 1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 Inheritance - Member Over ri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iostream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Class() {baseValue0 = 20;  baseValue1 = 3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Function() {return 15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Value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nstances of Derived Class mask the return value of the inher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 inherited function:  baseFunction(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DerivedClass : public Base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rivedClass() {derivedValue = 10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Mask Individual 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baseFunction() {return 27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Access Derived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getDerivedValue() {return derived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d setDerivedValue (int aValue) {derivedValue = aValue;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derivedValu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6-26T07:03:43Z</cp:lastPrinted>
  <dcterms:modified xsi:type="dcterms:W3CDTF">1999-06-26T07:04:38Z</dcterms:modified>
  <cp:revision>10830</cp:revision>
  <dc:subject/>
  <dc:title>No Slide Title</dc:title>
</cp:coreProperties>
</file>