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218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0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204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218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820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171360"/>
            <a:ext cx="582912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84582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95480" y="86868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F5C17DD8-9693-40AA-BDAB-D3856673A1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9360" y="717480"/>
            <a:ext cx="6115320" cy="30240"/>
            <a:chOff x="9360" y="717480"/>
            <a:chExt cx="6115320" cy="30240"/>
          </a:xfrm>
        </p:grpSpPr>
        <p:sp>
          <p:nvSpPr>
            <p:cNvPr id="5" name=""/>
            <p:cNvSpPr/>
            <p:nvPr/>
          </p:nvSpPr>
          <p:spPr>
            <a:xfrm>
              <a:off x="9360" y="71748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4760" y="74772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01560" y="8396280"/>
            <a:ext cx="6021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560" y="8496360"/>
            <a:ext cx="106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819000"/>
            <a:ext cx="61722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++ - Structs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str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nt1 = {3,4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nt2 = {5,6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point values are: " &lt;&lt; pnt1.x &lt;&lt; ", " &lt;&lt; pnt1.y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pnt2.x &lt;&lt; ", " &lt;&lt; pnt2.y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Constructors and Default Values 1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(int aDay=15, int aMonth=8, int aYear=197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ay() {return day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onth() {return month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Year() {return ye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::Date(int aDay, int aMonth, int aYear):day(aDay),month aMonth),year(aYea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Date::showDat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date is: " &lt;&lt; day &lt;&lt; '/'&lt;&lt; month &lt;&lt; '/' &lt;&lt; ye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date1 (12,25,5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date2 (11,19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date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1.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2.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3.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Using Private Constructors 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The constructor for Date is private and thus can only be acce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by instances of the class Holi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iend class Holi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ay() {return day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onth() {return month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Year() {return ye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(int aDay=15, int aMonth=8, int aYear=197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::Date(int aDay, int aMonth, int aYea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y = a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th = a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ar = a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Date::showDat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date is: " &lt;&lt; day &lt;&lt; '/'&lt;&lt; month &lt;&lt; '/' &lt;&lt; ye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class Holiday is created to show how to limit access to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onstruct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Only instances of the class Holiday can create instances of t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 D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Holi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*createHoliday(int day, int month) {myHoliday = new Date (day, month); return myHoliday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getHoliday() {myHoliday-&gt;showDate(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*myHoli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reate an instance of a Holiday then initialize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liday dat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1.createHoliday(10,1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isplay the Holi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1.getHolida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Overloading Function Members 1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ances of the class Printing can print integ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acters, or string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Prin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(int i) {cout &lt;&lt; "Integer:\t" &lt;&lt; i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(char c) {cout &lt;&lt; "Character:\t" &lt;&lt; c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print(char *s) {cout &lt;&lt; "String:\t\t" &lt;&lt; s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ing myPrint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 = "This is a string to print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Printer.print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Printer.print('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Printer.print(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604368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Scope 1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Each class defines a unique scop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My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() { myValue = 10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 ()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“Getting My Class value”  &lt;&lt; endl; return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Your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Class() { myValue = 20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 ()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“Getting Your Class value”  &lt;&lt; endl; 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vo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 m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Class your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prints    Getting My Class value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ting Your Class value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ine.getMyValue() &lt;&lt; endl &lt;&lt; yours.get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Pointers to Class instances 1.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laring and dereferencing pointers to class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ing instance members through instance point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(int aDay=15, int aMonth=8, int aYear=197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ay() {return day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onth() {return month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Year() {return ye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::Date(int aDay, int aMonth, int aYea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y = a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th = a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ar = a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Date::showDat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date is: " &lt;&lt; day &lt;&lt; '/'&lt;&lt; month &lt;&lt; '/' &lt;&lt; ye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date1 (12,25,5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date2 (11,19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*datePtr, date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tr = &amp;date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1.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2.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tr-&gt;show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 Members 2.0 - Un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Class A defines a tagged union memb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 defines an anonymous union memb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val.i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i = 2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i &lt;&lt; " " &lt;&lt; b.i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val.c = 'a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c = 'b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c &lt;&lt; " " &lt;&lt; b.c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++ - Structs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Structs with function members and nested str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Rectang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t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t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rea()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return (pt2.x - pt1.x)*(pt2.y-pt1.y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perimeter(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return 2*(pt2.x-pt1.x) + 2*(pt2.y-pt1.y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nt1 = {3,4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 pnt2 = {5,6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tangle r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1.pt1 = pnt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1.pt2 = pnt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area and perimeter of the rectangle are: " &lt;&lt; r1.area() &lt;&lt; "  "&lt;&lt; r1.perimeter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Union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Class A defines both public and private data memb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Class A must provide public access functions for the 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data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Char 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getChar(){return c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val.i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i = 2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i &lt;&lt; " " &lt;&lt; b.i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val.setChar('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c = 'b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is will result in a compile error because c is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vate data member of the union: v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a.val.c &lt;&lt; " " &lt;&lt; b.c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getChar() &lt;&lt; " " &lt;&lt; b.c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Unions 2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s with Constructors and Destru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union is defined outside of the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 IntCh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) {c = 'b'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int anInt) {i = anInt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Char 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getChar(){return c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 constructor with the union i nitialized to a charact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():val('a') {word = 10;}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 constructor with the union initialized to  an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int anInt):val(anInt) {word = anInt;}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char aChar):val(aChar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wor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b('e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getChar() &lt;&lt; " " &lt;&lt; b.val.getChar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Unions 2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s with Constructors and Destru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union is defined inside of the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:val('a') {word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int anInt):val(anInt) {word = anInt;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char aChar):val(aChar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on IntCh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) {c = 'b'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int anInt) {i = anInt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Char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Char 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getChar(){return c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va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wor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b('e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.getChar() &lt;&lt; " " &lt;&lt; b.val.getChar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9673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++ - Bonjour Mes Amis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Using ostream to write to std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onJou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nJour () {myStringPtr = "Bonjour Mes Amis...!!! Je fais le C++ ?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display () { cout  &lt;&lt; myStringPtr &lt;&lt; "  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"Bravo Moi !!!!!!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endl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myString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 (vo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nJour myFirst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FirstClass.display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Data Members and Data Only Classes 1.0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.myValue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myValu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Data Members and Data Only Classes 1.0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.myValue = 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yourClass = {12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at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onth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ye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 date1 = {12, 15, 94}, date2 = {11, 18, 1994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myValue &lt;&lt; "  " &lt;&lt; yourClass.myValu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date1.month &lt;&lt; " " &lt;&lt; date1.day &lt;&lt; " " &lt;&lt; date1.ye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date2.month &lt;&lt; " " &lt;&lt; date2.day &lt;&lt; " " &lt;&lt; date2.ye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Function Members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se functions define the public interface to the Clas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MyValue(int aValue) 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.setMyValu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ompile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myClass.myValu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19000"/>
            <a:ext cx="64008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Class Constructors 1.2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Defining and using a parameterized and a 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int a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MyValue(int aValue) 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::SimpleClass(int aValue) : myValue(a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standard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::SimpleClass() : myValue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default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 (void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(15), your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.setMyValu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myClass.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Value() &lt;&lt; " " &lt;&lt; yourClass.get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Creation - Class Destructors  1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destructors to deinitialize memory before object deallo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These are only necessary when clean up must proce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deallo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int a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SimpleClass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MyValue(int aValue) 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fine the Constru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::SimpleClass(int aValue) : myValue(a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standard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::SimpleClass() : myValue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default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819000"/>
            <a:ext cx="64008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fine the De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In this program, the destructor will be called twice as the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instances of SimpleClass go out of scope when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function main ex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::~SimpleClas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Cleaning up the mess you've made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(15), your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.setMyValu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myClass.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Value() &lt;&lt; " " &lt;&lt; yourClass.getMyValue(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6:48:54Z</cp:lastPrinted>
  <dcterms:modified xsi:type="dcterms:W3CDTF">1999-06-26T06:48:59Z</dcterms:modified>
  <cp:revision>10855</cp:revision>
  <dc:subject/>
  <dc:title>No Slide Title</dc:title>
</cp:coreProperties>
</file>